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43F-EBEE-45F2-A9CF-24D0300D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1DF-B201-495E-B63F-BD137AB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053-6D10-43F3-BCFD-B047674A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AF9-AB67-4C1B-A3DB-FB6FCA03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F36-341A-4EA9-A55E-B945413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C6F-3CDA-4DB5-BFDC-9BFDE08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E31-208D-4989-A2E3-741A4C30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58F-70E7-4125-9F6E-4693CE5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C3A-5FA4-4DC9-97CA-A9BE088E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23F-0931-422F-AFF2-7A6B09C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DC7-826E-499E-BD0A-35D894B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1E6-B7FD-4B9B-BB5C-2D103F3F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42D1-8A2D-42C7-A9EB-58E7901B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7011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36840" y="863640"/>
            <a:ext cx="69721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An experimental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oi D, Hiroi Y, Koshiba T, Suzuki Y, Kawaki M, et al. (2017) Walking through Apertures in Individuals with Stroke. PLOS ONE 12(1): e0170119. https://doi.org/10.1371/journal.pone.0170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70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