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353-61B7-4211-8A13-4C05298B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813-3854-4B14-96DC-B2EAC7DB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62E5-F896-4FDB-8D44-ED7B2D48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D41-EAEB-45CD-96F1-EF3E9A3C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2C5-AC24-4141-9E3E-D85023A2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54D-B3B0-41F8-972D-4D70CB8B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6E0-B096-4AB5-ACB6-BE63795A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106-A730-4684-A241-A0FDC7AE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180-1D35-4CD6-BD3B-3EAFEAB4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FEC-5D90-42DF-99A5-5D98D7F5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EB0-B470-439E-805C-A9FF852C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17B-A20D-4347-9A02-36EE32DC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812F-ABC9-4DEF-9FD2-B5D6AEB2A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journals.plos.org/plosone/article?id=10.1371/journal.pone.0170119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36840" y="863640"/>
            <a:ext cx="69721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1. An experimental ta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oi D, Hiroi Y, Koshiba T, Suzuki Y, Kawaki M, et al. (2017) Walking through Apertures in Individuals with Stroke. PLOS ONE 12(1): e0170119. https://doi.org/10.1371/journal.pone.01701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journals.plos.org/plosone/article?id=10.1371/journal.pone.01701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