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4A1-8F09-4309-AD02-1DA58575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BB7-ADE1-4444-9F25-C6F282C0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93C-E0CD-4AC0-9660-6A605EA0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AB9-448D-4DE4-9E5B-B3BC4CAC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8D3-90DC-4C43-9C6B-B1A113F1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8BB-039F-41D3-BE7D-8DDC0DD9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C9C-7D88-43C0-BB30-0A12671E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4C6-9F9D-4A71-99D5-F825F1C0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0CA-20AC-4BF8-834F-2B571B1E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CB7-0B0B-4CDB-9A45-35517D7D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585-EF9E-475E-ADAF-1F9EDF0B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02F-3270-41E7-994D-FA3DE738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6DE8-C154-429F-BD59-4657A43E9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journals.plos.org/plosone/article?id=10.1371/journal.pone.0057364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650960"/>
            <a:ext cx="9524880" cy="391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. Estimated mean initiation, movement, and total reaction times for soccer and non-soccer sub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hang MR, Red SD, Lin AH, Patel SS, Sereno AB (2013) Evidence of Cognitive Dysfunction after Soccer Playing with Ball Heading Using a Novel Tablet-Based Approach. PLOS ONE 8(2): e57364. https://doi.org/10.1371/journal.pone.00573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journals.plos.org/plosone/article?id=10.1371/journal.pone.00573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46920" y="7201080"/>
            <a:ext cx="3048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