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9A0-02C0-4D2C-9762-E23A9FEC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48A-DEE3-4D53-8386-550ACF7A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019-16A2-4133-A822-54E9F6E2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E2D-A5F6-4EBC-BBD5-B0C4CABF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318-E126-4A05-8632-FEF2BA57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E8D-3E69-457C-8204-7AA866CE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A6A-A634-4C47-929B-9410F9D3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F9C-F5D0-4783-9049-64F4C88F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95C-827D-480C-8F4C-F2B75E67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2F0-349F-40A8-9FB1-F2DA0FB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991-B116-4089-90D8-084A6C99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12D-35EB-47C3-9417-8693108F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BCD-348F-4BD7-B5D8-E387D752D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05736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650960"/>
            <a:ext cx="9524880" cy="391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. Estimated mean initiation, movement, and total reaction times for soccer and non-soccer su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hang MR, Red SD, Lin AH, Patel SS, Sereno AB (2013) Evidence of Cognitive Dysfunction after Soccer Playing with Ball Heading Using a Novel Tablet-Based Approach. PLOS ONE 8(2): e57364. https://doi.org/10.1371/journal.pone.00573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0573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46920" y="7201080"/>
            <a:ext cx="3048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