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997C-82D3-414F-9F13-BB59C8F2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3DFD-6EBB-40AF-93EE-352EB45A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9E7C-E931-413E-A049-580D31AC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665-C788-4668-B04C-5CBC6E5D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FBD-ABF7-436F-A95E-3FBE319F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C08B-D337-4759-B0DC-F65F26DB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D0F1-7541-428C-9C44-18DCF522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BB9-4182-41FD-B356-13F5EA3D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B438-D1D1-4EC7-B8E7-FF0DA14B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6E8-E22E-42EF-93A8-ECEAD1F2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04C3-EE4F-4F09-8EE3-162D37CE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E3A-635C-40FB-8DF8-2521255A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3F12-C488-4644-8467-FD5C15545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journals.plos.org/plosone/article?id=10.1371/journal.pone.0057364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663560"/>
            <a:ext cx="9524880" cy="387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. Schematic of the two tasks displayed on iPad scr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hang MR, Red SD, Lin AH, Patel SS, Sereno AB (2013) Evidence of Cognitive Dysfunction after Soccer Playing with Ball Heading Using a Novel Tablet-Based Approach. PLOS ONE 8(2): e57364. https://doi.org/10.1371/journal.pone.00573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journals.plos.org/plosone/article?id=10.1371/journal.pone.00573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946920" y="7201080"/>
            <a:ext cx="30481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