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600-BBBD-4018-924B-E7FEC641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3DA-C638-4836-BA51-C7759620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66F-6CCE-4CDF-B4B7-85EC9254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51C-1884-4F97-929E-DCF0EDC6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EC3-56B0-49C3-AF3F-BF9802AC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244-10DB-44DC-8310-5ED3FB5F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4A0-B194-4DE3-8359-FCB1D45E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9AE-2A3B-48C1-82BE-26073F89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1EB-54DF-454D-A6E9-B9A245A9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131-A7A3-455B-AF42-AA54540E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340-F093-4D89-8C39-8D406226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486-B47C-4732-AC2A-3998D4AF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0B29-4AB3-4568-862E-4D5EE7F33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journals.plos.org/plosone/article?id=10.1371/journal.pone.005736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663560"/>
            <a:ext cx="9524880" cy="387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Schematic of the two tasks displayed on iPad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hang MR, Red SD, Lin AH, Patel SS, Sereno AB (2013) Evidence of Cognitive Dysfunction after Soccer Playing with Ball Heading Using a Novel Tablet-Based Approach. PLOS ONE 8(2): e57364. https://doi.org/10.1371/journal.pone.00573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journals.plos.org/plosone/article?id=10.1371/journal.pone.00573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46920" y="7201080"/>
            <a:ext cx="3048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