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6E8-F0E7-40EB-B8B9-8570E20D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159-70B8-48AA-814C-1A9F956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7A6-1140-4C14-86BC-99625BA7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224-A972-4088-BF28-D81AD448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47C-AAE2-4A7E-B81D-DCE7B5C2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40B-72B2-4348-BCA1-B42CCF6C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A2A-689A-41F3-91D6-4DB93AD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183-B488-4DE5-AE3C-23719587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845-ADA8-43A5-B0A2-83824788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CEC-8428-4F39-8AAB-FE5C2C1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69C-8BFA-4361-B3E8-26686EE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D08-885C-40D7-A6FD-38F6AB1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0C26-AB7B-4741-8FAD-AA7ED5F172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285840" y="6100920"/>
            <a:ext cx="6141240" cy="1074240"/>
            <a:chOff x="285840" y="6100920"/>
            <a:chExt cx="6141240" cy="1074240"/>
          </a:xfrm>
        </p:grpSpPr>
        <p:pic>
          <p:nvPicPr>
            <p:cNvPr id="42" name="Picture 6" descr="fnrdd-t0-fg3crop5_z07(GFP+Cy3)"/>
            <p:cNvPicPr/>
            <p:nvPr/>
          </p:nvPicPr>
          <p:blipFill>
            <a:blip r:embed="rId1"/>
            <a:stretch/>
          </p:blipFill>
          <p:spPr>
            <a:xfrm>
              <a:off x="2743200" y="6100920"/>
              <a:ext cx="120924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2" descr="fnrdd-t0-fg3crop5_z07DIC"/>
            <p:cNvPicPr/>
            <p:nvPr/>
          </p:nvPicPr>
          <p:blipFill>
            <a:blip r:embed="rId2"/>
            <a:stretch/>
          </p:blipFill>
          <p:spPr>
            <a:xfrm>
              <a:off x="3980520" y="6100920"/>
              <a:ext cx="120924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3" descr="fnrdd-t0-fg3crop5_z07(GFP+Cy3+DIC)"/>
            <p:cNvPicPr/>
            <p:nvPr/>
          </p:nvPicPr>
          <p:blipFill>
            <a:blip r:embed="rId3"/>
            <a:stretch/>
          </p:blipFill>
          <p:spPr>
            <a:xfrm>
              <a:off x="5217840" y="6100920"/>
              <a:ext cx="120924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fnrdd-t0-fg3crop5_z07Cy3"/>
            <p:cNvPicPr/>
            <p:nvPr/>
          </p:nvPicPr>
          <p:blipFill>
            <a:blip r:embed="rId4"/>
            <a:stretch/>
          </p:blipFill>
          <p:spPr>
            <a:xfrm>
              <a:off x="285840" y="6100920"/>
              <a:ext cx="120924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fnrdd-t0-fg3crop5_z07GFP"/>
            <p:cNvPicPr/>
            <p:nvPr/>
          </p:nvPicPr>
          <p:blipFill>
            <a:blip r:embed="rId5"/>
            <a:stretch/>
          </p:blipFill>
          <p:spPr>
            <a:xfrm>
              <a:off x="1514520" y="6100920"/>
              <a:ext cx="1209240" cy="107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18"/>
          <p:cNvGrpSpPr/>
          <p:nvPr/>
        </p:nvGrpSpPr>
        <p:grpSpPr>
          <a:xfrm>
            <a:off x="812880" y="7589880"/>
            <a:ext cx="4826880" cy="1350720"/>
            <a:chOff x="812880" y="7589880"/>
            <a:chExt cx="4826880" cy="1350720"/>
          </a:xfrm>
        </p:grpSpPr>
        <p:pic>
          <p:nvPicPr>
            <p:cNvPr id="48" name="Picture 3" descr="FNRdd-t4-FG3crop3_(GFP+Cy3)"/>
            <p:cNvPicPr/>
            <p:nvPr/>
          </p:nvPicPr>
          <p:blipFill>
            <a:blip r:embed="rId6"/>
            <a:stretch/>
          </p:blipFill>
          <p:spPr>
            <a:xfrm>
              <a:off x="2755800" y="7589880"/>
              <a:ext cx="9518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Image0001_c8"/>
            <p:cNvPicPr/>
            <p:nvPr/>
          </p:nvPicPr>
          <p:blipFill>
            <a:blip r:embed="rId7"/>
            <a:stretch/>
          </p:blipFill>
          <p:spPr>
            <a:xfrm>
              <a:off x="3716280" y="7589880"/>
              <a:ext cx="9518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9" descr="Image0001_GFP"/>
            <p:cNvPicPr/>
            <p:nvPr/>
          </p:nvPicPr>
          <p:blipFill>
            <a:blip r:embed="rId8"/>
            <a:stretch/>
          </p:blipFill>
          <p:spPr>
            <a:xfrm>
              <a:off x="1773360" y="7589880"/>
              <a:ext cx="9518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0" descr="Image0001_Cy3"/>
            <p:cNvPicPr/>
            <p:nvPr/>
          </p:nvPicPr>
          <p:blipFill>
            <a:blip r:embed="rId9"/>
            <a:stretch/>
          </p:blipFill>
          <p:spPr>
            <a:xfrm>
              <a:off x="812880" y="7589880"/>
              <a:ext cx="9518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Image0001_(GFP+Cy3+DIC)"/>
            <p:cNvPicPr/>
            <p:nvPr/>
          </p:nvPicPr>
          <p:blipFill>
            <a:blip r:embed="rId10"/>
            <a:stretch/>
          </p:blipFill>
          <p:spPr>
            <a:xfrm>
              <a:off x="4687920" y="7589880"/>
              <a:ext cx="951840" cy="1350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3" name=""/>
          <p:cNvGraphicFramePr/>
          <p:nvPr/>
        </p:nvGraphicFramePr>
        <p:xfrm>
          <a:off x="3048120" y="7223040"/>
          <a:ext cx="2438280" cy="1620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T0, image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048120" y="9004320"/>
          <a:ext cx="1701720" cy="162000"/>
        </p:xfrm>
        <a:graphic>
          <a:graphicData uri="http://schemas.openxmlformats.org/drawingml/2006/table">
            <a:tbl>
              <a:tblPr/>
              <a:tblGrid>
                <a:gridCol w="1701720"/>
              </a:tblGrid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4h, image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075040" y="946620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pplementary Figur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22"/>
          <p:cNvSpPr/>
          <p:nvPr/>
        </p:nvSpPr>
        <p:spPr>
          <a:xfrm>
            <a:off x="349200" y="7112160"/>
            <a:ext cx="236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cteur droit 23"/>
          <p:cNvSpPr/>
          <p:nvPr/>
        </p:nvSpPr>
        <p:spPr>
          <a:xfrm>
            <a:off x="871560" y="8877240"/>
            <a:ext cx="236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22600" y="595440"/>
          <a:ext cx="3278160" cy="4867200"/>
        </p:xfrm>
        <a:graphic>
          <a:graphicData uri="http://schemas.openxmlformats.org/drawingml/2006/table">
            <a:tbl>
              <a:tblPr/>
              <a:tblGrid>
                <a:gridCol w="819000"/>
                <a:gridCol w="819000"/>
                <a:gridCol w="819360"/>
                <a:gridCol w="82080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=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1:44:30Z</dcterms:created>
  <dc:creator>kai</dc:creator>
  <dc:description/>
  <dc:language>en-US</dc:language>
  <cp:lastModifiedBy>Maryse</cp:lastModifiedBy>
  <dcterms:modified xsi:type="dcterms:W3CDTF">2011-01-06T09:15:44Z</dcterms:modified>
  <cp:revision>142</cp:revision>
  <dc:subject/>
  <dc:title>Diapositive 1</dc:title>
</cp:coreProperties>
</file>