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008-B43D-49C2-8ABF-F80CC37D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7EB-A75E-4D7B-A44D-F8DCC019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C6D-74F1-43E8-A7B5-99291855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D39-BC99-4F8E-BCE9-4C127E00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F0F-AC53-4B65-9BC1-9A044E48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784-7AC0-487B-9669-0C4F8E58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24A-A034-4925-9A21-97F23E47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9ED-67DE-41C5-9F22-0E16E65C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88B-F7F5-46B5-96B3-F9319350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6C9-64FF-432A-959F-F5490831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6C7-82FD-415E-9C66-362E1EA9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487-440A-4FC1-8E35-B2D3C98D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7A5D-1C33-46C8-B4D7-1884100DF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69575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30320" y="863640"/>
            <a:ext cx="61977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7. Age-standardized rates of mental disorder DALYs, by country and se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ra R, Forouzanfar M, Naghavi M, Moradi-Lakeh M, Afshin A, et al. (2017) The Burden of Mental Disorders in the Eastern Mediterranean Region, 1990-2013. PLOS ONE 12(1): e0169575. https://doi.org/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