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DE4F-89E1-420A-A5C7-77C0BB77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45D8-339A-471D-B295-CA3173FE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F283-2941-409F-9E0F-523BC328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6B8E-D004-4C56-8B89-17788551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4E05-E00D-467F-9727-F306E2DA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1068-F317-4ED3-81E2-0AAC53FD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FA8E-B40C-472E-98AD-0CD14592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122A-CC3B-4845-B3B6-DF862DD5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CD54-1528-458B-81E7-39161EE1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B2C4-CDCA-4933-9792-91F6A580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B480-57C0-454E-8DFA-F01CB431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ED4-367B-4D8E-A0E3-CCB696D3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7927-251E-4718-BF42-D8418A9ED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69575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257480"/>
            <a:ext cx="9524880" cy="4686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6. Proportion of DALYs explained by each mental disorder within the EM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ra R, Forouzanfar M, Naghavi M, Moradi-Lakeh M, Afshin A, et al. (2017) The Burden of Mental Disorders in the Eastern Mediterranean Region, 1990-2013. PLOS ONE 12(1): e0169575. https://doi.org/10.1371/journal.pone.01695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695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