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560E-5638-4BB0-B9FE-F1D09964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F77-A8FA-47D8-9E7F-58477B19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467-DC09-43E3-B868-30666D50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A90-77F1-41B5-916F-490BE4D0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A2B-74C6-47E8-A4F5-D9702459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ABB-C168-4F03-826D-023523A6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265-CC03-4B99-8042-47599102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DE44-30FC-4B25-8042-7772F5E1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F6A9-9AE3-4CEF-8DA5-84BF99D8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B6C-37F8-4D22-9CCE-5C160597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1B7-D742-4729-826E-FEC428BA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B82-BE3F-4084-B33D-6EDC1DF6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043B-A170-4D84-8948-3DDE7C7A0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69575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257480"/>
            <a:ext cx="9524880" cy="4686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6. Proportion of DALYs explained by each mental disorder within the EM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ra R, Forouzanfar M, Naghavi M, Moradi-Lakeh M, Afshin A, et al. (2017) The Burden of Mental Disorders in the Eastern Mediterranean Region, 1990-2013. PLOS ONE 12(1): e0169575. https://doi.org/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