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545A-64B3-4D57-9DC6-3765B7B3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92D2-5EA4-403C-924E-176809FA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B125-140A-468B-9B77-F655EBEC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34BE-D0EA-49E7-850A-4A08E8FF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DDCB-9019-4124-993C-661165DB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71F-7587-428F-8F08-B5D1DE90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BEE3-873C-441C-B432-C49EE25E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1878-AF3A-412C-8F82-BF472267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870-3AFD-4D22-990D-C9FFB8CA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0F4-5318-4652-BF6E-448AD901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61FB-F9A0-4E2C-8D29-158EAFE8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BE36-F13C-45D8-BCD4-8A30465F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6A8F-1FE7-417C-A455-BF1C112A7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69575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003320"/>
            <a:ext cx="9524880" cy="520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5. Change in DALYS/100,000 from 1990–2013, by inc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ra R, Forouzanfar M, Naghavi M, Moradi-Lakeh M, Afshin A, et al. (2017) The Burden of Mental Disorders in the Eastern Mediterranean Region, 1990-2013. PLOS ONE 12(1): e0169575. https://doi.org/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