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0745C-A6FA-43C4-81ED-F0282DDE1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3A273-2A00-48D2-94FF-2DA8C822D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C8D73-97FB-41F1-A6A4-245AFA086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8E937-07B1-468E-8C51-73AF0BD23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895E2-4F1A-4045-84A0-C1C124C94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7D813-963B-433F-875F-A3F69BE65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B5ECD-164C-4392-8A25-840DC8086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2BCDA-BE0C-4FB8-97C5-DB19F803D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31287-97F6-426A-A111-16BB1E379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FC2C8-754F-4519-9EBD-5B60EE369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FA928-7F50-40D4-9763-10BED5CD2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FB45C-2A45-4EAC-9D8E-D4EB6F3CE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345AA-132C-42FE-B975-B2D511A4E9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journals.plos.org/plosone/article?id=10.1371/journal.pone.0169575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66760" y="1079640"/>
            <a:ext cx="9524880" cy="50544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55680" y="279360"/>
            <a:ext cx="9360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 3. Rate of DALYs in EMR in 2013, by age and disord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44600" y="6515280"/>
            <a:ext cx="9182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ra R, Forouzanfar M, Naghavi M, Moradi-Lakeh M, Afshin A, et al. (2017) The Burden of Mental Disorders in the Eastern Mediterranean Region, 1990-2013. PLOS ONE 12(1): e0169575. https://doi.org/10.1371/journal.pone.01695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journals.plos.org/plosone/article?id=10.1371/journal.pone.01695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7569360" y="6972480"/>
            <a:ext cx="2425680" cy="7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