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BD76-CCEA-4E6B-AB95-61C39BA8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BA02-33FD-4E38-A535-6F01F3AA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8280-BEA9-4EFA-9068-51E8564A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82FA-4F27-477F-AEFC-D7F64399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74B3-FBC1-4203-B6F9-D9DC1785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C05C-C97D-4231-8767-0B8B1CFF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0599-9A1A-4308-950A-198055A0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D994-2212-4EB8-97EB-70B63226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5696-BA12-43ED-AC20-F9FE352D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208-FEE2-4132-9529-32F49105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4C5C-CF7D-45EE-8E56-577FE95D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D517-F828-4244-AD33-A0211001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2CFD-5D0F-4A50-B810-9576CADFF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69575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270080"/>
            <a:ext cx="9524880" cy="4673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2. Rate of DALYs in EMR, by age and ge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ra R, Forouzanfar M, Naghavi M, Moradi-Lakeh M, Afshin A, et al. (2017) The Burden of Mental Disorders in the Eastern Mediterranean Region, 1990-2013. PLOS ONE 12(1): e0169575. https://doi.org/10.1371/journal.pone.01695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695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