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0931-822B-49A6-A5D4-C67C674B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527-3426-46DE-96FC-631140E2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E1EA-24CD-4450-8F4B-42CF9BA6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519-9D22-4AE8-9A21-E20B34F2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F868-5E80-4BDA-925A-247DEAA3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C2F-3EF9-4A1B-8719-2BDCF37C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4CE8-D37B-4A99-AB72-D7C43770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FEC-D1C2-4688-AE3B-5D7A040A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F96-D3CD-480B-B01F-5EE4F00B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1BD7-3257-414F-8C75-71888469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D49-6275-4102-B284-624FA9B1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071-E775-406E-8E89-1E2DA59F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6F0C-84DA-49AC-83EB-7291925C2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69575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06360" y="863640"/>
            <a:ext cx="763272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1. Rate of DALYs due to mental disorders in EMR and globally, by income level and g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ra R, Forouzanfar M, Naghavi M, Moradi-Lakeh M, Afshin A, et al. (2017) The Burden of Mental Disorders in the Eastern Mediterranean Region, 1990-2013. PLOS ONE 12(1): e0169575. https://doi.org/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695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