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DC647-584E-4C7E-808C-E5132110E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AD2C9-A6A8-4F03-A80C-8AE10C568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42653-5748-455C-978B-F8D664A10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26414-296F-450A-9E36-99A657FBE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39DCD-C630-4633-A3AC-959893BB0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97434-2488-4B63-A6E8-FD4D3BDD8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50DC8-0508-4118-91E4-BDBE6CACB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4A586-00BA-4716-B34B-3E2CFFE56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86EA4-081B-46A9-9567-0AE40BD2B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2D24C-369F-42E8-B488-9AE9B63CF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A4F63-2F20-440D-8391-BDC576EB7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558A5-BB37-45D6-AE2F-90B137E24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CADCA-80C9-4255-AD1F-C93423D2D5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journals.plos.org/plosone/article?id=10.1371/journal.pone.0169575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206360" y="863640"/>
            <a:ext cx="7632720" cy="54864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55680" y="279360"/>
            <a:ext cx="9360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 1. Rate of DALYs due to mental disorders in EMR and globally, by income level and gend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44600" y="6515280"/>
            <a:ext cx="9182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ra R, Forouzanfar M, Naghavi M, Moradi-Lakeh M, Afshin A, et al. (2017) The Burden of Mental Disorders in the Eastern Mediterranean Region, 1990-2013. PLOS ONE 12(1): e0169575. https://doi.org/10.1371/journal.pone.01695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journals.plos.org/plosone/article?id=10.1371/journal.pone.01695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7569360" y="6972480"/>
            <a:ext cx="2425680" cy="7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