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FFA-F017-4DA5-99FA-14D629D5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D56-1B85-4A61-9634-68FE55D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650-E38D-4535-8328-211D4F30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9FD-D384-4313-AF16-72CA71FF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B98-B582-4F41-A600-ADE08A5C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FF7-76F9-47E4-9DE4-0A97C58A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7A9-6CBE-4F38-8A70-3D2039AA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217-5CE1-427B-B7E4-1AC770D8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832-4F31-4D3B-BFAD-597B77E3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DB3-0F45-43F7-9DDD-23366AB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A4F-B2C6-4B20-9FC6-E036AF84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55F-F891-4CF7-8AAB-2955F747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8892-B183-4FDD-AD47-57EB27125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98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324160"/>
            <a:ext cx="9524880" cy="256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3. Associations with reporting different answers, and if different answer, for reporting more sensitive response in the web and not in Natsal-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kill S, Copas A, Couper MP, Clifton S, Prah P, et al. (2016) Using the Web to Collect Data on Sensitive Behaviours: A Study Looking at Mode Effects on the British National Survey of Sexual Attitudes and Lifestyles. PLOS ONE 11(2): e0147983. https://doi.org/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