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4B0-0BF4-429D-B6DF-80861E99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C6E-8038-4D07-8853-0D2C2B4F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9C1-0E4F-43E7-BFEB-B15194CB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6D2-609F-44A5-9A46-62375E5E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8C79-85FA-4180-8373-08CA797E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0EA-E3C4-47A7-8B0D-43D57D5C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216-57C6-4E9B-BBE8-62AB8AAA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4DC-65DF-49C7-BCBB-C3BB0486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E36-03B0-4032-94D6-B81DE1D0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976-21AE-4BA1-8004-311425DE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AA0-A7DE-4313-8E76-EA2CBA94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B95-B9CD-4F3F-97B2-D72F157D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9CB9-1A0C-4A3D-90DF-3E9031289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98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9160" y="863640"/>
            <a:ext cx="85471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2. Differences in response, pooled across questions, by question mode in Natsal-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kill S, Copas A, Couper MP, Clifton S, Prah P, et al. (2016) Using the Web to Collect Data on Sensitive Behaviours: A Study Looking at Mode Effects on the British National Survey of Sexual Attitudes and Lifestyles. PLOS ONE 11(2): e0147983. https://doi.org/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