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FD5-F0C2-4C5C-850B-F1F8326B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AA6-33EA-4B17-89D0-3F9C7877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45B-653A-4A88-81CD-69B7ECEE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547-7F77-46D5-8C30-7C3AF781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218-171A-452D-9084-C14917B1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ABC-DC75-4FAA-AB81-ACEB7DDC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E46-59EF-4D07-9230-4CCD3A4A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652-8AA0-4DC8-BF3D-018436CA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A0E-FB16-4755-811B-BC3F3ED9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CD0-8C5A-4628-B05E-492072B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0FD-DED6-4DE2-B1E7-64FE40C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D41-21DD-4A2C-8084-29F008D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EC39-4010-444B-AB77-D92DA37E8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98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498680"/>
            <a:ext cx="9524880" cy="4216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Demographic questions: differences in respon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kill S, Copas A, Couper MP, Clifton S, Prah P, et al. (2016) Using the Web to Collect Data on Sensitive Behaviours: A Study Looking at Mode Effects on the British National Survey of Sexual Attitudes and Lifestyles. PLOS ONE 11(2): e0147983. https://doi.org/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