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E4AC-964E-4DC2-9F4B-DA7C5FE36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2B52-E26E-4343-AC66-E74856055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60AA-7FBF-46CE-BFD4-A9DC4E2C7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C969-705E-4248-BB93-B37F333FD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3319-6DE3-4E47-ACF4-128C7729A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AE2F-7252-43B5-A40B-E06D8D74C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7119-15E5-4E14-B7B3-54423D0FC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BF36-CCEC-4B8B-9A06-658C3B611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B19C-F3B6-46E5-9294-AAC4898C4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E31D-C99C-467E-9A4B-DFC2A2F8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6A89-4077-40E0-8F6D-DD25B2F8E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131F-15A8-4E04-81AE-D2B6DDF7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4C1F6-0FE7-4E0D-9ECF-D92E95802E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ournals.plos.org/plosone/article?id=10.1371/journal.pone.0147983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81160" y="863640"/>
            <a:ext cx="7683480" cy="5486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680" y="279360"/>
            <a:ext cx="936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 2. Sampling and response to web survey for Natsal-3 wave 8 respond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4600" y="6515280"/>
            <a:ext cx="9182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kill S, Copas A, Couper MP, Clifton S, Prah P, et al. (2016) Using the Web to Collect Data on Sensitive Behaviours: A Study Looking at Mode Effects on the British National Survey of Sexual Attitudes and Lifestyles. PLOS ONE 11(2): e0147983. https://doi.org/10.1371/journal.pone.01479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journals.plos.org/plosone/article?id=10.1371/journal.pone.01479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569360" y="6972480"/>
            <a:ext cx="242568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