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13B-33F8-418A-8DA4-1AAAAE8B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0BB-B56A-4784-B3E3-FF8D9C85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DE89-67DC-48B7-88A8-F1C7AA14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7080-12F5-49B7-90C9-317A89F2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F65-CBD3-4A9F-B6B5-BEFA4B7E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195-3C31-4AA5-9520-F20873A2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C0D-388C-400B-85A6-0EE8F5D6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039-A312-482E-8644-F54BF51B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8BA-46F9-4749-A698-87D3F894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4C04-8665-4C84-84D8-B484E0BF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CA5-CBC9-4BD5-BE54-56F1BE6D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6B43-3702-4E94-A794-21E7B0D9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DE54-39BF-4B2D-9288-F69E11DAC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147983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15920" y="863640"/>
            <a:ext cx="802656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1. Sampling and response to web survey for Natsal-3 wave 7 respond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kill S, Copas A, Couper MP, Clifton S, Prah P, et al. (2016) Using the Web to Collect Data on Sensitive Behaviours: A Study Looking at Mode Effects on the British National Survey of Sexual Attitudes and Lifestyles. PLOS ONE 11(2): e0147983. https://doi.org/10.1371/journal.pone.0147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147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