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CA1-1807-4428-A980-BF0E84F1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F2A7-031D-44F7-BC13-26A19BA3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BA8-DF3D-46A2-8780-F79B7A47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9B28-255E-4EDD-A8BA-0B0491BD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70A5-E935-46CA-84D9-57BE68DA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441-0CE3-4CF8-8CA9-52C9D4E2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4BE-D723-409B-909B-65FD5AA3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0E3-9EDF-4944-A559-CBE00DD7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934-6069-4DC1-8AD8-BAB46D08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A88-47B4-44A2-B934-A92AE4D6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15C-0BF4-4D85-813B-E20EB1EC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DAF-164A-45B0-9864-A73C70D1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441B-E25C-4971-B015-47BACE45F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143000"/>
            <a:ext cx="9524880" cy="4927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0. Performance across variations in functional form, efficiency distribution, and measurement err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