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2808-C49D-4E73-BE70-40547518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40E-34C7-4DE9-AB80-45D17E4D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84F-090B-471D-84D6-0EA6E2AA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36A-97D0-4122-BDAA-C231EEF7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26EF-848C-4791-918F-F6364DF4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857C-8079-49EA-BCEA-EEF39343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DBF-1737-4130-9853-A883B815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145-690D-42E9-8C56-EAC4F694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3DC-74CB-4328-BF9F-CCC460BF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FC7-A1F2-4B5D-B714-986007AE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E1C-DCFB-4815-AE5B-27D78C9A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CCA-25A5-430C-873B-2CE23867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0975-485D-475A-A7C7-A7B420BED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143000"/>
            <a:ext cx="9524880" cy="4927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0. Performance across variations in functional form, efficiency distribution, and measurement err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