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020C-3F20-4A9E-A25F-F6F1A39E3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84CD-643E-465A-BEBC-A27247AA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47D3-F616-4380-ACB3-0DA60EA05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3457-D91F-4A74-BDD8-8F146247A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8206-AE4C-45B6-9122-E67A58D9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BA2A-08F2-42D2-B6AD-473AAE8C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1138-6E42-4E62-8212-C9C26C67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BA75-D279-4C32-855A-EB739F95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A561-1632-42CB-9B7A-064456A7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DF3D-034D-4659-A3E6-B56EBDFE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33FA-AF08-4BC4-9B2C-C32F51BC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8FCF-AD9D-40BA-8BA5-D34A3352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29FD-963D-4445-931A-43DB414CC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147261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1600200"/>
            <a:ext cx="9524880" cy="4013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9. Performance across variations in the functional fo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orgio LD, Flaxman AD, Moses MW, Fullman N, Hanlon M, et al. (2016) Efficiency of Health Care Production in Low-Resource Settings: A Monte-Carlo Simulation to Compare the Performance of Data Envelopment Analysis, Stochastic Distance Functions, and an Ensemble Model. PLOS ONE 11(1): e0147261. https://doi.org/10.1371/journal.pone.01472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1472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