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9200-EB4E-48D4-BE78-30E5B3F39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38FB-F7E8-4E7D-A544-70B42F10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9759-FE9C-4EB1-A18E-7990368F0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A217-0493-4B0C-8556-A2F25DC56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F98F-56E2-4660-BE3F-BBEDA157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00FD-6AE2-4895-B07F-C71118EA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D387-7FED-4B1A-A7AB-23F39CA9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B18B-57C2-45E5-8297-2A59C04C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56CA-8432-400F-9E6C-CE7FB197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1AFC-0878-429A-B0A2-5718BF64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E187-5149-4AF4-8E3D-392000A7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42DA-2EDB-4984-856C-BCF4C713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73E1-1713-44D1-8851-23D78AF50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147261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95360" y="863640"/>
            <a:ext cx="906768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7. Performance across variations in measurement err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orgio LD, Flaxman AD, Moses MW, Fullman N, Hanlon M, et al. (2016) Efficiency of Health Care Production in Low-Resource Settings: A Monte-Carlo Simulation to Compare the Performance of Data Envelopment Analysis, Stochastic Distance Functions, and an Ensemble Model. PLOS ONE 11(1): e0147261. https://doi.org/10.1371/journal.pone.01472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1472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