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66E-F8DE-4E6B-BD15-371AA7E8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7E8-AA1E-4EE7-84B9-E1C13F28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B64-4718-41FD-A248-EE15967A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CF5-0956-47C6-88BD-D1258314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B9A-B13B-434C-ABD3-88F31356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3EE-2B08-4C04-8240-8720E411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63D-08D3-47FA-BFEB-85D22349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2A0-07E6-45CF-9D9B-B54A4B94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F6C-1B0F-448F-AD86-A4A90222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7FE-C7DD-438E-8174-66C7996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984-68A4-4309-8371-2A4B2B35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553-9EA2-4B63-89D4-B616306E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0C89-1242-4DFA-9AB4-B9E6EBE65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044800"/>
            <a:ext cx="9524880" cy="312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5. Performance across variations in the correlation structure between inpu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