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6AB-15F2-4169-90AE-DE7F78B3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8C7-605C-4BA3-B8F7-A44F4C49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D68-BE41-4A46-BE8C-6A04228F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A6B-2016-4962-B636-7A3418EE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00E-DE10-46E4-97E8-D297EAE5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44C-5742-4B47-972B-6B7F3012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DBD-CED7-4A52-8863-6A8B2ACF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6DA-B72E-4972-B319-92FA2C1C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9B7-6A83-4172-9E3B-C055F0FB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762-8802-4605-B23D-F2AB1AB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EF4-2E26-48AB-93F1-5AABDBC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63A-0C42-4814-BB4A-7123FC6D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6120-8CE1-4776-B113-3A7E8D73D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044800"/>
            <a:ext cx="9524880" cy="312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5. Performance across variations in the correlation structure between inpu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