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5A9-339D-4B5A-ADA4-9565C081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5EC-3075-445C-8608-9B63A826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412-4497-415D-94DF-B19CE364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0C0-240A-49D4-9C36-6CED90DC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500-7029-47AE-83DB-80ECCFAF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357-FFB7-4B10-A4F9-0FF1F1AC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116-089B-4A0F-B910-0FD6AB0D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1B1-6002-48CC-8815-D008986E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1F8-60EB-4CDE-8A3A-2BE40D0F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459-784D-4971-9390-0EB95626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1D3-C9E2-4363-8B05-3BF430B9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B16-F894-456C-9378-AABF44D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3BA9-41AB-458A-9C2E-138FA09A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044800"/>
            <a:ext cx="9524880" cy="312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2. Performance of rDEA across different weight restriction percentile cutoff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