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F69-458B-4614-A161-93A156E9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1AC-6609-4706-B6F6-C0C9B4B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EA4-F879-41D9-9A3B-5957CD52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E8A-3D3E-4A58-99A9-7471E791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427-9A7D-4B40-9380-014FC67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421-2BBB-4F37-9EEE-E79E389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8FD-B509-4205-A9BA-503DB15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2D3-DA1A-42E9-B14B-15C83987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D87-C0CE-4725-BCCA-0C1067C3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ED7-36A1-4C6B-A8F2-1DF3838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21A-68C2-4863-94DF-3264E45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4A1-45EC-489E-9E0D-7537AB26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FD85-2EF4-42A0-B9F7-B4D72681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44800"/>
            <a:ext cx="9524880" cy="312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. Performance of rDEA across different weight restriction percentile cutoff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