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7CD-6200-41AE-891E-7CF1AFB4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565-BFEA-48A0-869E-14FE113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A51-68A1-4908-AA3A-B4582025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9CE-3D39-4DAA-BFCA-01CE039B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69A-C557-4E3A-AC8B-4EA0AC5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9A0-F5CF-471C-89FF-B521680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E21-2B0F-41B6-A4B2-7928B27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C58-7FAE-4FD7-B38D-BD435EE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532-45FA-4C05-93EC-13D098CF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82C-0117-47A9-8A59-A42DB856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E3E-3DBE-4E38-868A-80073F8B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A9B-88BF-491A-A39F-8559DF2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679B-63FB-47A9-A02B-44C25CE6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26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930320"/>
            <a:ext cx="9524880" cy="334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Baseline simulation design for LMIC and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orgio LD, Flaxman AD, Moses MW, Fullman N, Hanlon M, et al. (2016) Efficiency of Health Care Production in Low-Resource Settings: A Monte-Carlo Simulation to Compare the Performance of Data Envelopment Analysis, Stochastic Distance Functions, and an Ensemble Model. PLOS ONE 11(1): e0147261. https://doi.org/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2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