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AEFB-CCD3-4B1C-9D0E-C0742139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35B7-F2F6-4C87-A32B-0E99DC56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2F5C-4209-4AC5-AB0F-513E2EFD0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035D-A26C-4F6C-A377-7484B2C5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38FA-0440-4775-87BB-AA66AE47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DC8B-C9DA-4D50-B003-FB3E0D18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A127-BBE9-486E-8547-395776F9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76A0-C012-43B0-A4AB-63F6CB56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CB07-4E2F-4A45-9997-3ED0F6BA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F809-BACE-4D0B-9ABE-C0111827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EACE-771C-4B77-BD7E-FDB604CD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FB45-49B0-4C73-BC72-DAE5A2B9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4FC5-5661-4DE3-8B7C-2ABB18A69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47261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320840"/>
            <a:ext cx="9524880" cy="457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1. Comparison of DEA and rDEA estimated efficiency vs. true efficie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orgio LD, Flaxman AD, Moses MW, Fullman N, Hanlon M, et al. (2016) Efficiency of Health Care Production in Low-Resource Settings: A Monte-Carlo Simulation to Compare the Performance of Data Envelopment Analysis, Stochastic Distance Functions, and an Ensemble Model. PLOS ONE 11(1): e0147261. https://doi.org/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