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449-F9C3-4ECD-AA30-EBBE44DD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665-8639-4E01-916A-1050818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992-2907-4072-BDD9-B4266B9F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5BD-A2C7-4925-BE05-55C42F7A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7C0-DAC9-4309-8FA1-D8A0F346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855-045C-4A7E-99B7-DDCFD20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3C5-48FC-403B-8442-D8867D9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3A9-2293-44AB-B0CE-C552F4FB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E1D-9B77-460A-8775-2FD5050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1B2-4C76-4FFF-9A3C-9B778F7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F41-BADB-4BEF-83D7-6E3D0F3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FAB-DF2D-42D6-98FA-F4A3314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096-E1BC-4C78-B26F-4B1D580C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00600" y="863640"/>
            <a:ext cx="457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Name combinations used since 1977 for selected mosquitoes belonging to Tribe Aedini with associated human pathogens and invasive (established, spreading) or non-native (established, not spreading) behavi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