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4A8-8C20-4C65-8E5E-49AC91C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DA4-EADC-4CD4-84F1-1B0A412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FA6-F2E4-41E9-968B-F8B3931C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C0A-27A8-4828-8A97-5BB09620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9D0-8AAA-48B9-A83E-87D5669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460-6461-4882-B324-8569F82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BC0-F6FA-4C23-B5D1-9F0B44E0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ECB-EB57-4948-A4A1-21169D7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A82-5E6A-4C03-88F0-2712750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488-83EB-4C9D-881A-44FE6C0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50C-F6C5-4D27-9E84-5955314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2F4-78D2-493F-875D-76923DDC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1FD-3A58-4AE8-8ACB-960CF84B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33602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00600" y="863640"/>
            <a:ext cx="457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Name combinations used since 1977 for selected mosquitoes belonging to Tribe Aedini with associated human pathogens and invasive (established, spreading) or non-native (established, not spreading) behavi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kerson RC, Linton YM, Fonseca DM, Schultz TR, Price DC, et al. (2015) Making Mosquito Taxonomy Useful: A Stable Classification of Tribe Aedini that Balances Utility with Current Knowledge of Evolutionary Relationships. PLOS ONE 10(7): e0133602. https://doi.org/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336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