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82B-9245-45A9-987A-68418B5B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DA3-B940-43B5-8178-E6A6605F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D63-57D5-4818-A978-3E0616E7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470-F5BE-4570-B36E-E682F4D2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CD8-263C-49F4-8F54-0C1A8F03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64F-6997-4330-BC4C-16A4BA29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669-B0B9-4CE2-8940-43030222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CDD-AA4C-41B1-9B4B-C192A587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CFB-E77F-4455-96B1-DAE31F5A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A3E-589D-473A-A5BD-386C096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62A-338C-41F9-9CD0-F08E8179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6A2-7ACB-4902-9618-01002286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B08C-893C-4CCE-9B7E-837A7C3F9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33602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54560" y="863640"/>
            <a:ext cx="31366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3. Strict consensus tree derived from the reanalysis of the Aedini morphology data set using unweighted parsimony with 14 ordered charac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kerson RC, Linton YM, Fonseca DM, Schultz TR, Price DC, et al. (2015) Making Mosquito Taxonomy Useful: A Stable Classification of Tribe Aedini that Balances Utility with Current Knowledge of Evolutionary Relationships. PLOS ONE 10(7): e0133602. https://doi.org/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