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F85-2D48-4B07-B141-B1EF2225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F8F-8578-43A5-B902-07886B87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2F2-A223-448B-8758-3435AAAC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F0A-D634-464A-B8E9-1AC6F959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534-845B-4A7B-96B2-9E477D43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3A9-B74A-499B-86A5-C07D7323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B13-EE54-4CF4-8277-FA73519A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957-E881-4288-BA73-F813FAF6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6EB-204E-4A40-8226-4C895BB5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D09B-A210-4610-A722-A3BF3EF6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8EC1-6274-4C37-A007-A769DEE8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D45-E5B7-44E5-AB69-2A2CD677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5606-2513-4D4A-8C1B-A3FD9F3EA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33602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54560" y="863640"/>
            <a:ext cx="313668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3. Strict consensus tree derived from the reanalysis of the Aedini morphology data set using unweighted parsimony with 14 ordered charac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kerson RC, Linton YM, Fonseca DM, Schultz TR, Price DC, et al. (2015) Making Mosquito Taxonomy Useful: A Stable Classification of Tribe Aedini that Balances Utility with Current Knowledge of Evolutionary Relationships. PLOS ONE 10(7): e0133602. https://doi.org/10.1371/journal.pone.01336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336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