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8C7-8BD6-48EF-8D86-A5813AD6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380-CEAD-4A99-8AB4-E2E2DECD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C3D-BDED-4CDE-9A8A-526E4A60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40C-4E4F-4EB8-BCE5-3EADACFA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ACA-1AE2-49F5-B759-766287C9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86D-975D-4BD9-9E6C-9D8F8D58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AA1-A23A-4E82-8AA1-E04B5D7F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026-FA7D-438E-A750-6FDD95E8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766-8A7F-4A36-B2A4-B0C20BB1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DB2-CB24-43D6-8ED9-97873B5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3A7-EC51-4F8D-88B1-EE499721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7B5-70F8-402C-A445-1BB1FB7E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EFB2-52E9-4353-B5C9-36809E23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33602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59200" y="863640"/>
            <a:ext cx="41274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. Tree derived from the single most parsimonious cladogram in Reinert, Harbach &amp;amp; Kitching 2009 [73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kerson RC, Linton YM, Fonseca DM, Schultz TR, Price DC, et al. (2015) Making Mosquito Taxonomy Useful: A Stable Classification of Tribe Aedini that Balances Utility with Current Knowledge of Evolutionary Relationships. PLOS ONE 10(7): e0133602. https://doi.org/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