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84F-7CA4-45F5-BE23-EBDEA942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E37-5844-488D-A67F-44ABFA61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081-EA0F-47E3-98BF-3E001D66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D02-DFB6-425A-8C07-B1EDA919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003-9313-4665-A100-791FF626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CC9-30CB-4A1F-AA3A-3747F14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870-F77E-4204-904C-86DB9F9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4AE-AC2A-48DC-BA4C-699552B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7A5-4421-4499-B049-E3B53561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ACB-8C35-4AF2-8800-F32E2CC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C38-99AD-49A4-B53F-7556D82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DC9-D166-4079-A68B-FEBD1D9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ED2-B6E2-4D5F-B5D7-28DE043DC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59200" y="863640"/>
            <a:ext cx="4127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Tree derived from the single most parsimonious cladogram in Reinert, Harbach &amp;amp; Kitching 2009 [73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