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629-2421-4534-81EE-05935166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E8C-1314-4ED4-8F52-5ECABED3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BDC-669B-4BE4-A051-28F6BC2C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056-F943-4CD7-AFD6-ACE6B645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AD2-0D29-4BF1-8BA2-3829ED62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EFB-C40F-4541-BD78-FFAE2D01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A19-C4E1-4DF5-B526-7A3462E4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EC9-07AA-479A-BE44-FEB2AF9D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C8D-9C99-49A5-8B77-4B942ECA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D23-6C99-49DB-83E2-EECDBFFA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67F-5B51-48A5-BE61-CD23033F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415-AB02-42DE-BB35-D9DA2126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40E7-01A2-4C12-8AC8-89E2A8BEA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33602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2800" y="863640"/>
            <a:ext cx="68198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Graph comparing number of aedine mosquito genera and subgenera from 1977 to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kerson RC, Linton YM, Fonseca DM, Schultz TR, Price DC, et al. (2015) Making Mosquito Taxonomy Useful: A Stable Classification of Tribe Aedini that Balances Utility with Current Knowledge of Evolutionary Relationships. PLOS ONE 10(7): e0133602. https://doi.org/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