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70B-38A6-4820-985F-8B4B4103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FAB-E1FF-4B21-9235-456E1437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7FB-0E86-4B72-9126-60D608D7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966-5E04-417C-AED1-835C473B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A1C-7E23-40FD-AD26-7DF16CC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3A5-2D1E-43E2-97C0-1EF8B995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883-7B0C-40F6-8CB3-AC7AF216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89D-8BCD-4AF3-88D2-0BCAC74C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A1B-FD8B-487E-ACE4-87F77866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5EF-8BFD-4A76-8252-6C7962B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E8A-1A86-49F1-8E6B-79C41EA4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EC9-AE78-44B5-AC9F-7BCAAF28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DBD-B33F-4D81-B696-42F74771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33602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2800" y="863640"/>
            <a:ext cx="68198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Graph comparing number of aedine mosquito genera and subgenera from 1977 to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kerson RC, Linton YM, Fonseca DM, Schultz TR, Price DC, et al. (2015) Making Mosquito Taxonomy Useful: A Stable Classification of Tribe Aedini that Balances Utility with Current Knowledge of Evolutionary Relationships. PLOS ONE 10(7): e0133602. https://doi.org/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