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EE94B-B6C4-4FCB-8E69-4A55A70B5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52F8D-CD62-40A8-8415-9E39FCEB1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DFC59-8BBB-451B-97AC-1DE9338E7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FFD11-1B52-4565-BCC4-F25C10912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B6B4F-2D9F-4744-9D3E-F68C5D13C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449EA-A8B8-4692-9D75-1B8D6A30E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B3F0E-5FC1-400C-8A62-C498C7C8C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33DB0-1155-421B-90BB-8ED68BF3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9AF4-4014-47FB-9819-4EAF46DEB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5D2A-2FAF-402E-9DF3-3C54B673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E021-E4DC-4B67-9B2E-C63475462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09D2-C338-44AD-8AA3-7859B0229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AD8C-6272-4E15-86E6-4A4CAD31D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760" y="2324160"/>
            <a:ext cx="9524880" cy="2552760"/>
          </a:xfrm>
          <a:prstGeom prst="rect">
            <a:avLst/>
          </a:prstGeom>
          <a:ln w="0">
            <a:noFill/>
          </a:ln>
        </p:spPr>
      </p:pic>
      <p:sp>
        <p:nvSpPr>
          <p:cNvPr id="42" name="PlaceHolder 1"/>
          <p:cNvSpPr>
            <a:spLocks noGrp="1"/>
          </p:cNvSpPr>
          <p:nvPr>
            <p:ph type="title"/>
          </p:nvPr>
        </p:nvSpPr>
        <p:spPr>
          <a:xfrm>
            <a:off x="355680" y="279360"/>
            <a:ext cx="9360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3. Broad scientific themes of NIAMS 2013 skin grants in percentage.</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