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58400" cy="777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21DE8C-E635-4FDF-9567-1400A8459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018C2-95CD-45A6-B109-DFC446FCC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FF0BA-E9FD-4627-B1C2-31F7F82D21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069757-F638-48B4-9F26-1E14634AE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879DC-B7A5-4AE2-8F69-8FF0DB361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3A85A-BBF6-4A32-A1D6-57EEEF523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B1B46-7045-46AE-9C82-84D6A0E09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8817E-62A0-4039-9869-C083970A3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41D34-D974-44AF-B470-8569F7FF6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BACFE-2468-4162-82E0-639242D4A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A1615-47AF-464A-94B8-ACFE5342D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0358F-E848-4B75-A99D-2E9974429F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19B7D-153B-4359-807E-45E0A86AE2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journals.plos.org/plosone/article?id=10.1371/journal.pone.0102122"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66760" y="2324160"/>
            <a:ext cx="9524880" cy="2552760"/>
          </a:xfrm>
          <a:prstGeom prst="rect">
            <a:avLst/>
          </a:prstGeom>
          <a:ln w="0">
            <a:noFill/>
          </a:ln>
        </p:spPr>
      </p:pic>
      <p:sp>
        <p:nvSpPr>
          <p:cNvPr id="42" name="PlaceHolder 1"/>
          <p:cNvSpPr>
            <a:spLocks noGrp="1"/>
          </p:cNvSpPr>
          <p:nvPr>
            <p:ph type="title"/>
          </p:nvPr>
        </p:nvSpPr>
        <p:spPr>
          <a:xfrm>
            <a:off x="355680" y="279360"/>
            <a:ext cx="9360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ble 3. Broad scientific themes of NIAMS 2013 skin grants in percentage.</a:t>
            </a:r>
            <a:endParaRPr b="0" lang="en-US" sz="1600" spc="-1" strike="noStrike">
              <a:solidFill>
                <a:srgbClr val="000000"/>
              </a:solidFill>
              <a:latin typeface="Arial"/>
            </a:endParaRPr>
          </a:p>
        </p:txBody>
      </p:sp>
      <p:sp>
        <p:nvSpPr>
          <p:cNvPr id="43" name=""/>
          <p:cNvSpPr/>
          <p:nvPr/>
        </p:nvSpPr>
        <p:spPr>
          <a:xfrm>
            <a:off x="444600" y="6515280"/>
            <a:ext cx="91821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rimkhani C, Boyers LN, Margolis DJ, Naghavi M, Hay RJ, et al. (2014) Comparing Cutaneous Research Funded by the National Institute of Arthritis and Musculoskeletal and Skin Diseases with 2010 Global Burden of Disease Results. PLOS ONE 9(7): e102122. https://doi.org/10.1371/journal.pone.010212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journals.plos.org/plosone/article?id=10.1371/journal.pone.0102122</a:t>
            </a:r>
            <a:endParaRPr b="0" lang="en-US" sz="1200" spc="-1" strike="noStrike">
              <a:solidFill>
                <a:srgbClr val="000000"/>
              </a:solidFill>
              <a:latin typeface="Arial"/>
            </a:endParaRPr>
          </a:p>
        </p:txBody>
      </p:sp>
      <p:pic>
        <p:nvPicPr>
          <p:cNvPr id="44" name="" descr=""/>
          <p:cNvPicPr/>
          <p:nvPr/>
        </p:nvPicPr>
        <p:blipFill>
          <a:blip r:embed="rId3"/>
          <a:stretch/>
        </p:blipFill>
        <p:spPr>
          <a:xfrm>
            <a:off x="7569360" y="6972480"/>
            <a:ext cx="2425680" cy="73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03-04-07T20:47:14Z</dcterms:modified>
  <cp:revision>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