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A820B-066E-4116-8B6B-60AFBFE4F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7C19D-91F1-4E66-B66A-04FB785E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FE22B-5B7D-432E-9BCB-1AB2822ED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B00B9-C7CF-4CD6-AEC1-F932C7BE4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C58A-EEF9-4625-BFC1-417A639E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2530-045D-4BBE-9F42-1F2DF4B27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AF409-FFB4-4958-9704-43D8B8A3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86169-950C-4EC8-8629-3A3814643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02533-D65C-4033-8CCB-C6F3B3FB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8F67-DDC6-4FB5-B606-7428C622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8000-1577-4678-95D3-5193DC55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CAFC-1F81-433E-9EE4-BB5450B98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EF1D-074E-43E9-AC0D-1C57F7903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1676520"/>
            <a:ext cx="9524880" cy="384804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2. Conditions represented from the “other skin and subcutaneous diseases” Global Burden of Diseases category in the NIAMS 2013 skin-focused grantsa (arranged in order of decreasing funding).</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