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2810E-9C06-4F46-8838-8EDD204B3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C0CF6-1D7A-45E0-A2C8-EBE69996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BD498-F00D-447E-A228-252F6BC66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E5847-BCC1-4ECE-9666-3FA6D51B9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461B-75D4-4DB5-A632-8ADBA92DF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B1B5A-9B07-44BD-8E50-B77DE567E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D7CF1-53DB-470F-BB28-736B59DBD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A7F4-F203-4AA0-88CB-38DF01916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27E33-EAC1-4AFA-9D45-35C5143D5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D6D3-07CF-4B4D-A154-CD025492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4BBCC-FE74-4E1A-B280-D0C13E66E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637D-FA4C-4CEB-94A8-DBF06953A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4F02-4659-41BA-B962-93B547F74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760" y="1676520"/>
            <a:ext cx="9524880" cy="384804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2. Conditions represented from the “other skin and subcutaneous diseases” Global Burden of Diseases category in the NIAMS 2013 skin-focused grantsa (arranged in order of decreasing funding).</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