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E1144-C55E-43D8-95BD-0F65B93D7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C5E92-591F-418C-9EDC-D6CEF790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8A3B-296C-496A-A834-166E01259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AF799-E665-4764-924C-109B15B83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0C91-CB29-4FA7-A623-64043F1B6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4A74-33FE-40C9-A892-7F258A10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92405-5311-4EAC-A991-F5877C1D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70761-E318-4FB8-B7D0-5CA61D6E1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F48B-6803-4247-9D1A-366B4C94D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9826-0DFA-464A-8C18-EA85452C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EC7F8-0C52-4E61-8D0A-326E8E591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2CE1-C7FD-4C0B-A8F9-52E4257DA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D802-E4F7-418E-933E-20DE76D09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one/article?id=10.1371/journal.pone.0102122"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057400" y="863640"/>
            <a:ext cx="5931000" cy="5486400"/>
          </a:xfrm>
          <a:prstGeom prst="rect">
            <a:avLst/>
          </a:prstGeom>
          <a:ln w="0">
            <a:noFill/>
          </a:ln>
        </p:spPr>
      </p:pic>
      <p:sp>
        <p:nvSpPr>
          <p:cNvPr id="42" name="PlaceHolder 1"/>
          <p:cNvSpPr>
            <a:spLocks noGrp="1"/>
          </p:cNvSpPr>
          <p:nvPr>
            <p:ph type="title"/>
          </p:nvPr>
        </p:nvSpPr>
        <p:spPr>
          <a:xfrm>
            <a:off x="355680" y="279360"/>
            <a:ext cx="9360000" cy="58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1. Categorization of NIAMS grants, funding, and US Global Burden of Disease DALY metrics (arranged in order of decreasing US DALY).</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imkhani C, Boyers LN, Margolis DJ, Naghavi M, Hay RJ, et al. (2014) Comparing Cutaneous Research Funded by the National Institute of Arthritis and Musculoskeletal and Skin Diseases with 2010 Global Burden of Disease Results. PLOS ONE 9(7): e102122. https://doi.org/10.1371/journal.pone.0102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one/article?id=10.1371/journal.pone.0102122</a:t>
            </a:r>
            <a:endParaRPr b="0" lang="en-US" sz="1200" spc="-1" strike="noStrike">
              <a:solidFill>
                <a:srgbClr val="000000"/>
              </a:solidFill>
              <a:latin typeface="Arial"/>
            </a:endParaRPr>
          </a:p>
        </p:txBody>
      </p:sp>
      <p:pic>
        <p:nvPicPr>
          <p:cNvPr id="44" name="" descr=""/>
          <p:cNvPicPr/>
          <p:nvPr/>
        </p:nvPicPr>
        <p:blipFill>
          <a:blip r:embed="rId3"/>
          <a:stretch/>
        </p:blipFill>
        <p:spPr>
          <a:xfrm>
            <a:off x="7569360" y="6972480"/>
            <a:ext cx="2425680" cy="7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