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368CD-7917-424C-92F1-4E821CDD8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F66E3-808B-4589-B9AF-2987BB198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30A22-0C0E-400D-8F9D-1213C7393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D1F0-582C-4C7F-9755-F2748888D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5CF08-44F6-4485-BC78-6405238AC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BB5C-0119-45F7-99D0-0490B0B51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BB7C-8C84-478F-A3A6-1C5197990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EEF3D-B8DA-4FA0-B564-DA755F53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C356-EE9A-42EA-A6F4-CECEC0D4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0DB6A-3A31-4CF7-AE5C-030B5490D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431E-5552-4349-BC2B-97D3F205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C1B2-E428-4DCC-87A5-CA2C92473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78BD-F20A-43EA-9864-656864FCC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52560" y="863640"/>
            <a:ext cx="8140680" cy="548640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 NIAMS skin funding in 2013 compared to skin disease disability scatter plot–GBD 2010 skin condition category NIAMS 2013 grant funding versus US GBD 2010 skin condition DALYs.</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