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3D7E6-CD5A-421A-91FA-37B67029F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E561-B55F-4CB4-9DC9-349AFC2E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312D1-B479-47EA-A38D-C769C81AE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06AC1-CA24-43C1-B8D3-21A1DEB90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DC23B-6D35-43DF-BD2B-664AC852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06A1-6D05-4441-ADC8-EE01E7D20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7DF1-6881-48DF-8B0C-3EA4236D4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99FCA-88EE-4AB7-94D4-6364AAFA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B33C9-3BF0-4BD2-AEE3-9C658463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D3408-0602-4A1C-B8DF-EEC984C1D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6801D-F3A8-42E2-B7BC-8E404B7E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A325-CCEA-4CCA-9BB7-D66277684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04C1-42E5-473B-9CD6-847A449B4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52560" y="863640"/>
            <a:ext cx="81406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 NIAMS skin funding in 2013 compared to skin disease disability scatter plot–GBD 2010 skin condition category NIAMS 2013 grant funding versus US GBD 2010 skin condition DALYs.</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