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44DC6-EDDE-461A-BE76-C97AC02A7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FD48-41EF-4205-A59B-F416C9F39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861B-EC3C-441D-BC27-6EDFC5604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192A-0959-4E47-9855-14D0555FC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99FD-7ECF-416D-A23E-32964374B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9E528-CBAC-4F94-B7F7-E5DE7A310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DAC7-CD42-43E7-9963-B0A62D83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D020F-C9FB-4309-A108-78085F13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D39F-E619-45AB-922B-1ED1E78E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C161-4926-4046-9C5F-408D7E55B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E037-CC13-4B77-9A55-36CEA024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9684-200B-434D-B67B-60E954BA0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76FA-4065-48E9-97FA-EA3794CAC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65160" y="863640"/>
            <a:ext cx="8128080" cy="548640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 NIAMS skin funding in 2013 and skin disease disability bar graph—Distribution of NIAMS funding in 2013 for skin-related grants (red) compared to percent of total US GBD 2010 DALYs for each category (blue).</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