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3EEB4-3606-4508-9A94-10D1F896A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ACF46-9CA5-464D-BF72-21D023FE2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5AC25-6D76-4BDC-B907-C1E559735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36FB3-60D0-43DA-89E8-CED0584B9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D97D5-56EA-4DDD-8248-CEF330657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070FE-279B-4FCA-BD58-728051528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00E44-D53E-480F-A11A-93E9C474D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C6FD1-30BA-4E5F-85C8-DF867BC26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A78EA-1217-4691-9974-5FF942967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A3F6C-70F5-4A7F-A11D-8E0C40EB7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C5D4-E616-4516-9383-180FFC9C3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F1A0-3BB5-49F4-AD81-9E9358E43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79BE-77E0-41D8-AC98-508418751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one/article?id=10.1371/journal.pone.0102122"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65160" y="863640"/>
            <a:ext cx="8128080" cy="5486400"/>
          </a:xfrm>
          <a:prstGeom prst="rect">
            <a:avLst/>
          </a:prstGeom>
          <a:ln w="0">
            <a:noFill/>
          </a:ln>
        </p:spPr>
      </p:pic>
      <p:sp>
        <p:nvSpPr>
          <p:cNvPr id="42" name="PlaceHolder 1"/>
          <p:cNvSpPr>
            <a:spLocks noGrp="1"/>
          </p:cNvSpPr>
          <p:nvPr>
            <p:ph type="title"/>
          </p:nvPr>
        </p:nvSpPr>
        <p:spPr>
          <a:xfrm>
            <a:off x="355680" y="279360"/>
            <a:ext cx="9360000" cy="82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 NIAMS skin funding in 2013 and skin disease disability bar graph—Distribution of NIAMS funding in 2013 for skin-related grants (red) compared to percent of total US GBD 2010 DALYs for each category (blue).</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imkhani C, Boyers LN, Margolis DJ, Naghavi M, Hay RJ, et al. (2014) Comparing Cutaneous Research Funded by the National Institute of Arthritis and Musculoskeletal and Skin Diseases with 2010 Global Burden of Disease Results. PLOS ONE 9(7): e102122. https://doi.org/10.1371/journal.pone.0102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one/article?id=10.1371/journal.pone.0102122</a:t>
            </a:r>
            <a:endParaRPr b="0" lang="en-US" sz="1200" spc="-1" strike="noStrike">
              <a:solidFill>
                <a:srgbClr val="000000"/>
              </a:solidFill>
              <a:latin typeface="Arial"/>
            </a:endParaRPr>
          </a:p>
        </p:txBody>
      </p:sp>
      <p:pic>
        <p:nvPicPr>
          <p:cNvPr id="44" name="" descr=""/>
          <p:cNvPicPr/>
          <p:nvPr/>
        </p:nvPicPr>
        <p:blipFill>
          <a:blip r:embed="rId3"/>
          <a:stretch/>
        </p:blipFill>
        <p:spPr>
          <a:xfrm>
            <a:off x="7569360" y="6972480"/>
            <a:ext cx="2425680" cy="73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