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412-C0C9-41FB-86D3-CE0A572E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D0B-E895-4447-B80C-327616D8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A55-0101-4DE4-A320-C27483D4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087-8F80-47A4-BD4C-6E13A6F4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488-6ED6-4387-92B7-46AFD8D6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6B3-104C-4CC8-B2CD-915A5CFE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9AC-FDCC-4323-9315-597FF049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667-CD00-41C2-9184-FCE86C78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260-AC0B-4EA5-8DD4-68AFE799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389-7225-4900-A9FD-32F02B75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EBC-F2E4-4F4B-BE33-AE369786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85C-BF06-4095-A587-7E7ED2EE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2A82-648C-4D1E-9FA2-788435905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7065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71880" y="863640"/>
            <a:ext cx="57020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. Gains in job execution time (speed-up) for the example data when running on variable number of processors on two computer architect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nier F, Glover KA (2013) ParallelStructure: A R Package to Distribute Parallel Runs of the Population Genetics Program STRUCTURE on Multi-Core Computers. PLOS ONE 8(7): e70651. https://doi.org/10.1371/journal.pone.00706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706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