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B99-8B24-4511-96F0-5984B491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38E-E5A7-4E1A-B4AC-CABD0D11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0F5-F09D-4E52-9D59-DD7B046E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DF81-4874-4B3B-9486-099F439D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A93-1292-4223-9C0E-C7782F79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1E2-9E59-433A-B8B4-B238E2EB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6768-CFC6-42A8-B804-F46917D6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639-9A6B-4DB7-B65A-7C0A7E11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E1B-AFB2-46E8-9100-40145BA0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57CF-5DDD-413E-9ACE-0CD1BB73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5FE-60BF-4BF4-BDE3-B3191A8D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7E9-92B5-4BEA-9E98-7402BE6A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C700-A6EB-45F3-9826-C0E56D177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one/article?id=10.1371/journal.pone.0070651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71880" y="863640"/>
            <a:ext cx="570204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1. Gains in job execution time (speed-up) for the example data when running on variable number of processors on two computer architect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nier F, Glover KA (2013) ParallelStructure: A R Package to Distribute Parallel Runs of the Population Genetics Program STRUCTURE on Multi-Core Computers. PLOS ONE 8(7): e70651. https://doi.org/10.1371/journal.pone.00706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one/article?id=10.1371/journal.pone.00706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6972480"/>
            <a:ext cx="24256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