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AECA-2A87-4BBB-B8E8-7AD9C663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7A5-818F-4EE5-96E2-51BF9528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E20-A7BE-4E85-8EC0-EF85044A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E643-3681-4E0D-A320-88EE40DB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346-F955-435D-8621-3FA64282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A27A-7AB8-4868-BA7D-C56C3475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4969-ABFD-4C42-BB13-8B30E98E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A83-F34B-4FB7-8E28-4294136D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C697-A64C-4B17-87E5-39D12C3F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62C8-1BAB-4F7C-B1FC-0DDD20FD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01B-7E77-430B-9D1C-5248B34E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3C8-B8CF-45BA-A2CE-952627C0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48F6-A5BF-4EFE-8C44-D661FBF62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059469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015920"/>
            <a:ext cx="9524880" cy="5181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7. Percentage breakdown of the total number of forest elephants by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sels F, Strindberg S, Blake S, Wittemyer G, Hart J, et al. (2013) Devastating Decline of Forest Elephants in Central Africa. PLOS ONE 8(3): e59469. https://doi.org/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