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3408-A45C-4C52-93FF-2A9A4A4C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D3D-74F3-4769-A55C-08A6950C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E7A-D76F-446B-9288-461063EF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1BB-349A-43AA-9979-FB8A0186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1C8-0C30-4CB9-B1BE-D4EA8A57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E3E-A58A-42DC-9459-138655D6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C7F-E36F-42AB-80C5-6F18B245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F0E-FACA-4685-AF33-55463668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901-26F1-45A8-BD0D-3F3001B7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06E-E5CD-4279-8512-2FF1CD89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0710-D551-46B3-AD8C-129EE04A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095-BE11-4157-93EF-A939EA0B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9B8F-0A14-489C-BD79-EC8707611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059469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015920"/>
            <a:ext cx="9524880" cy="5181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7. Percentage breakdown of the total number of forest elephants by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sels F, Strindberg S, Blake S, Wittemyer G, Hart J, et al. (2013) Devastating Decline of Forest Elephants in Central Africa. PLOS ONE 8(3): e59469. https://doi.org/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