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27B-0F57-43D3-89B2-4F8B9D2A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14A-89D7-4CB7-8E66-FD17D2E4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70B1-E7BA-4AE2-9F40-BF6E8A64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3261-FC9E-450A-8E90-19B1F8C3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A1C-608B-44C0-92B8-26172791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D78-D3E5-46F3-A3A4-B806EB55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EBC-87B5-4100-AEE1-26E776FE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FBC-2211-410F-B9A9-130C48F2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201-0BD4-4B1C-8CF2-AF506AFC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4FD-E03D-42D3-9673-02F07758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C26-D4DD-4DB0-A083-D41B8480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E43-EB2A-4565-9F97-A580EBAA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D9C8-AAA6-4A0C-95A8-64D180108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59469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87320" y="863640"/>
            <a:ext cx="848376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5. Encounter rate of elephant dung per kilomet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els F, Strindberg S, Blake S, Wittemyer G, Hart J, et al. (2013) Devastating Decline of Forest Elephants in Central Africa. PLOS ONE 8(3): e59469. https://doi.org/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