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2D0-01F0-4280-B989-DCD1E6C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AAB-CA60-43BB-AC4C-52AB6AC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5EE-B5DC-4B45-AC42-91FDAF59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D66-0032-49AB-B5E3-9174C42A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FD3-D378-4607-A6D2-12F313E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339-08EB-4968-BCC3-E733798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3C3-BD59-4836-B04D-45E2733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BC6-2573-4D28-8723-9472846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279-77AB-4E91-9313-C35E3275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C28-73E0-4CCC-AA64-9A0F7D1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BB8-B954-4AB6-B665-0B97331E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7E8-A1DC-4109-AC4E-ABAA594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88A-31A6-4ABE-9D9E-F28AF934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84600" y="863640"/>
            <a:ext cx="889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Estimated conditional dependence of elephant dung density for top-ranked multi-variable models including hunter si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