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7C90-143D-4EEF-8E27-0FEB86B5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8C48-1458-4483-9A80-F8A9062C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C8D8-3A88-49A2-9B69-07295040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5158-AB17-4893-B472-82C74CC9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AAC0-4A7C-401A-B6E5-C6B317E3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90A9-203F-45BA-BE77-1B8C642B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E7B-F124-4953-8A23-7B071D28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7543-DC70-4C3F-BD1C-362EDE91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5E27-6EFB-4AF6-9DCB-20220BEF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35AC-7EC5-4533-9467-B768E159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7DD9-3170-45CD-9E87-C1DB4C8F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94FB-07F4-423E-BFCD-ECFE580A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568E-7FBF-40A8-B2C6-511B436C1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059469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84600" y="863640"/>
            <a:ext cx="8892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3. Estimated conditional dependence of elephant dung density for top-ranked multi-variable models including hunter sig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sels F, Strindberg S, Blake S, Wittemyer G, Hart J, et al. (2013) Devastating Decline of Forest Elephants in Central Africa. PLOS ONE 8(3): e59469. https://doi.org/10.1371/journal.pone.00594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0594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