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241-6930-41EB-8D89-3839B931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B4E-DE37-4006-A939-F75B8C9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235-D02C-4D31-9E14-41900462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775-840C-4D04-9A18-9AD99FEA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90B-6200-482D-88E6-B5FDD6B8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FB9-48FF-4386-9FA7-B2E2176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5A6-5C84-4534-A636-222828B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C66-1162-4E95-B6A7-D2C8C699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6FF-3935-4DE7-A4CF-757FAA2A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D6B-0404-4950-B1AF-7CA7A0E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BAD-9E3D-403F-B52F-255DB93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349-41FA-4DB4-BDAF-2626BA2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EE8-3B6B-4C7B-AAB8-D54B5DD2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1360" y="863640"/>
            <a:ext cx="8635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Estimated change in elephant dung density (/km2) distribution during 2002–2011 across the Central African for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