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BB48-331E-4002-86DA-87A4B08C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195-3446-4CC1-A66B-C63E93B0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54BD-5AE5-400E-9130-B6D7C6AD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807A-A1ED-45F5-B6F5-0D01F42B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41B-D58A-4153-BF56-EE7BC5B1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683-5164-48A3-AE85-A7C76560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964-48BA-431E-8346-714DE31A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A969-A22E-4C1B-9DDA-3AB31F02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916F-CAB1-40BE-BBD9-75240A05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5A9D-FCFC-4A51-A788-1F716780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0EFE-52F2-4043-B018-3845D6EE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D9CC-CE3B-43C7-AC1C-F8A309EA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6B4D-639B-4FCC-AB71-57A241594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059469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11360" y="863640"/>
            <a:ext cx="863568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2. Estimated change in elephant dung density (/km2) distribution during 2002–2011 across the Central African for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sels F, Strindberg S, Blake S, Wittemyer G, Hart J, et al. (2013) Devastating Decline of Forest Elephants in Central Africa. PLOS ONE 8(3): e59469. https://doi.org/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