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274-87BD-478B-A791-D705766A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8E2-F143-48ED-AA30-BDD32FB7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EE2-E6BF-457F-B3AD-DC2A74FA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ABF-3946-4E7B-8C2C-D54A2D77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5C3-4A6C-4708-A9B8-7A6753A6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125-DCAE-4374-86D7-1AC540A4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7B3-899A-4D68-8C52-2B903BAA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18E-8523-4A84-847E-F32EF18A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D55-6E4B-4172-AE06-4600E553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B29-8262-44C6-BD4E-53BF4E2D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9A5-158D-49E4-B1B2-5D02EFAF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DBF-750E-431B-AB14-CBA0FA4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3F59-4454-401F-9D19-0C7AAE49B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87320" y="863640"/>
            <a:ext cx="84837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Elephant dung density and range reduction across the Central African for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