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353-8753-4336-8B96-0EF894A5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54A-D652-4DD5-AEC7-E9EC1AB9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7F4-CA6C-4289-A540-3CE89BC0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DED-3680-4613-8726-342F420A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9E0-4B31-445B-B83F-BD4AC313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F9B-6546-4056-8FF4-6A98C32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A66-7C5F-487A-BB52-86340BE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74F-C7AC-4180-83AE-8F8797A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D94-65E2-4D48-94A0-0284FCF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88D-4D32-40EC-AFCA-BBE6926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E86-858B-4DC2-9883-D1599F9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BBA-E4D4-4D66-B236-71B0751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C34F-9C4D-47BD-A8F8-9E050F8A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59469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87320" y="863640"/>
            <a:ext cx="8483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Elephant dung density and range reduction across the Central African for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els F, Strindberg S, Blake S, Wittemyer G, Hart J, et al. (2013) Devastating Decline of Forest Elephants in Central Africa. PLOS ONE 8(3): e59469. https://doi.org/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59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