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B48-261C-4CDF-95F9-09639BC7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F12-53BF-4ED4-9B38-7293238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85C-23EF-42D1-82F4-9697FD63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AFC-0E14-40D1-9778-975ED76C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C14-879D-4C43-A4CC-3207841A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467-C438-45B8-AF35-BC300B5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F5F-A22E-4665-A80E-42A2B2B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E8F-EE41-4A53-B688-9ADF757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4E-7737-42A2-A465-A205E976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625-7CE1-428E-88B5-C3EDB1D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CD1-BB4F-43D1-AEE7-064862A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21-CF62-4424-8223-FACCE0A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4E6-582B-43FA-BDEB-491004A3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0380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41480"/>
            <a:ext cx="9524880" cy="5118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 The 2006 impact factor of Web of Science specialized Journals and subsets of articles from England, France, Germany, Japan and 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eghini R, Packer AL, Nassi-Calò L (2008) Articles by Latin American Authors in Prestigious Journals Have Fewer Citations. PLOS ONE 3(11): e3804. https://doi.org/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03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