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026-DFF7-49DE-B1E7-55D2D3B0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6EE-E935-4E22-8B43-601507F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5F0-2710-467C-8507-F29C0B12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E3D-EB27-4F97-8442-3A3FB828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89C-3710-45B8-8E52-609A4BA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596-C87D-40E8-A294-FDFD1266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3DC-06FD-4033-ADCB-E471388F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02F-9917-470B-89B0-553CE4D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E9C-67E4-48ED-85F5-9898FC6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A4F-87AC-4990-950D-FB36F7C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131-D921-4CC0-9BBC-7560713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23D-02B3-4A28-8ED4-D19BAB8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E38-5B4B-46C2-8B6A-603ADE8CA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0380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41480"/>
            <a:ext cx="9524880" cy="5118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 The 2006 impact factor of Web of Science specialized Journals and subsets of articles from England, France, Germany, Japan and 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eghini R, Packer AL, Nassi-Calò L (2008) Articles by Latin American Authors in Prestigious Journals Have Fewer Citations. PLOS ONE 3(11): e3804. https://doi.org/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