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F68-A0EA-4073-A094-29AECD4D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9E6-B71B-4B91-9DD1-6CA70C43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9F6-F3BA-4CD9-BBB3-6909F6AB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545-CB24-4AD8-AF22-95EB1B09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4E5-89D2-433F-B9FF-9B54676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DF0-40BC-4D9C-8112-6193A751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749-F686-4B3F-AB60-3FE90D11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E1A-6387-4B93-8BDA-265B8FFA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73F-C3E3-4EF5-AAB1-12AE7165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C64-F687-4FEA-BF89-4B2BC92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24A-6D5E-4216-8A2B-229F4B24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98B-DC35-4C18-9978-1DE066C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EF34-6395-4009-93F7-E00BFFC4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0380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34960" y="863640"/>
            <a:ext cx="71755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The 2006 impact factor of Web of Science specialized Journals and subsets of articles from Argentina, Brazil, Chile and Me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eghini R, Packer AL, Nassi-Calò L (2008) Articles by Latin American Authors in Prestigious Journals Have Fewer Citations. PLOS ONE 3(11): e3804. https://doi.org/10.1371/journal.pone.0003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03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