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4DE7-E32C-457F-B9BB-AAB9C87D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2D50-2D98-46F3-9091-8C4E0D42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956B-3DD4-403D-8B9A-36819601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0792-8FAE-40C2-BC66-C2193396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DFFA-BB41-413C-A7FF-EDFCF9D6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314B-7D25-4C53-905B-C018BAE9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1130-E742-428E-9ED0-924BEE82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4F93-DF49-4EAD-9670-BD5ADAAD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DFC1-1B95-4B3E-A20D-ACB1EE26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2DA0-71CB-4916-A0F0-08B94145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58AE-D7DB-4D31-81A8-3445097D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6F1F-934E-441B-ADB2-B11BEC14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5295-6DE4-4571-940F-87260E42B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003804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34960" y="863640"/>
            <a:ext cx="717552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1. The 2006 impact factor of Web of Science specialized Journals and subsets of articles from Argentina, Brazil, Chile and Mex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eghini R, Packer AL, Nassi-Calò L (2008) Articles by Latin American Authors in Prestigious Journals Have Fewer Citations. PLOS ONE 3(11): e3804. https://doi.org/10.1371/journal.pone.00038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0038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