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FE3A-4E10-4EB0-A2BE-FC7BBB5A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289C-65E9-4F86-A7F9-8C630642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D941-E2C1-461C-97A2-A750024B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95E-A7D5-478D-BC6B-63F67488D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F0BF-FE52-4042-8388-8D287F62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ED9-87C1-4BD8-8E4C-FD0248DD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E7C0-40DA-4B33-8EB9-50E42D09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5F3D-4405-414C-864C-D46043D5C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B55-4D50-4AED-86A7-FB80601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720A-C7FD-4D99-802C-8BB1A36A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8A0F-5E76-4EDF-9C7A-76DA4435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449-385B-4273-BB3A-C663334F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8DA6-0333-40A7-938A-A812AEB28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journals.plos.org/plosntds/article?id=10.1371/journal.pntd.0003756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857680" y="863640"/>
            <a:ext cx="433044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58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Clusters indicated as mapping priorities with their constituent diseases recommended for distribution modelling and current global mapping projects identifi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ott DM, Howes RE, Wiebe A, Battle KE, Golding N, et al. (2015) Prioritising Infectious Disease Mapping. PLOS Neglected Tropical Diseases 9(6): e0003756. https://doi.org/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journals.plos.org/plosntds/article?id=10.1371/journal.pntd.00037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756480" y="6972480"/>
            <a:ext cx="3238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