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EC4F-59D9-4822-9590-8EF495C9C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C580-1DDC-4D97-9ED3-338D4E81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2F68-1C4A-441C-BD17-13199DFB5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84A4-C7B6-47F4-949B-48375B132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ACE5-8A28-42B5-91DF-70C32457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2D2F-1BB0-47DF-8ED6-C47CC90F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EB02-69D0-4DE7-8A87-E0483F73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CC86-6A63-4E04-80BC-B6F7EEC2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FC54-1BC7-43F0-91DB-C014F99E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ABDB-39D9-4999-9809-7D0AE350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9246-D833-40B4-B6B2-5757FBED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866E-6699-4A2F-943D-ED88B695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EFD5-A731-4D74-9B6E-526378140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ntds/article?id=10.1371/journal.pntd.0003756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857680" y="863640"/>
            <a:ext cx="433044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5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1. Clusters indicated as mapping priorities with their constituent diseases recommended for distribution modelling and current global mapping projects identifi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gott DM, Howes RE, Wiebe A, Battle KE, Golding N, et al. (2015) Prioritising Infectious Disease Mapping. PLOS Neglected Tropical Diseases 9(6): e0003756. https://doi.org/10.1371/journal.pntd.00037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ntds/article?id=10.1371/journal.pntd.00037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756480" y="6972480"/>
            <a:ext cx="323856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