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E402-07CB-4CEE-B077-C6696CA1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4CB6-6BFD-4073-839A-E06F6CD5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B3C3-458B-497E-8FA3-9390F448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4CCB-1D97-456B-9009-E32BE914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82F7-56E4-4196-A2B5-2C1EEC33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BB49-F1D7-46BD-98DE-1D30CF94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5628-A7CA-4E78-B510-7540A9A7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2CA0-997D-463F-8129-DB2A58F1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BA72-8A72-42E7-AF2F-588E734E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12D3-CFD9-453E-9AD6-B3FF2EE8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FA6E-67B2-4666-B3FD-1CCA2B84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D618-1F51-4300-ACD7-A241C95C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AC80-5C0A-4E88-B1D3-2AF711C90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ntds/article?id=10.1371/journal.pntd.0003756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784680" y="863640"/>
            <a:ext cx="247644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5. Plots indicating the relative importance of each mapping clus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gott DM, Howes RE, Wiebe A, Battle KE, Golding N, et al. (2015) Prioritising Infectious Disease Mapping. PLOS Neglected Tropical Diseases 9(6): e0003756. https://doi.org/10.1371/journal.pntd.00037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ntds/article?id=10.1371/journal.pntd.00037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756480" y="6972480"/>
            <a:ext cx="323856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