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FFA3-22D3-4C30-B8D1-D28F0F0D7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DB02-D25E-4C50-BF3A-649A4C44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02C8-CB53-41DE-96D7-7F76E6E0D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B44F-0136-45EE-99E6-221862881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40E0-CD99-4F19-B688-A5190CA99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4013-6436-4467-B385-382CE0FC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1BB0-3D0A-4123-B5D9-8DCA1582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4D42-9D97-40BE-B3C4-71D42EB0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0032-A803-4EE5-A53F-6C4836A9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7B57-9368-4015-B36C-BA951720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ADC0-CD62-417A-BB6B-7BE9EA9A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6C02-AE73-47E0-8552-8F0FC6B2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BBF5-A7AD-426F-A7B6-1CEA02D0A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ntds/article?id=10.1371/journal.pntd.0003756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784680" y="863640"/>
            <a:ext cx="247644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 5. Plots indicating the relative importance of each mapping clus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gott DM, Howes RE, Wiebe A, Battle KE, Golding N, et al. (2015) Prioritising Infectious Disease Mapping. PLOS Neglected Tropical Diseases 9(6): e0003756. https://doi.org/10.1371/journal.pntd.00037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ntds/article?id=10.1371/journal.pntd.00037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756480" y="6972480"/>
            <a:ext cx="323856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