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A3B0-2EC1-4C84-96B8-1631331E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4CB0-15F5-4FD3-8DB7-7F574475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9274-9B24-49E8-9765-4ED9BC69C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519B-95CF-4537-8E49-21717563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550D-A6B3-4086-B492-1127C3338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D35-4AAA-4E8A-AE8A-7BD9AE088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0AA-7F51-4522-8E04-09971C4A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8A41-3C13-439D-96A9-6CB59DCB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D944-0A3E-46C9-BD0F-7D0C772B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CA3-82FC-43D3-898A-FAA4A094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112-39A4-43BD-8D04-1D3F7532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DAC4-167A-445C-A3EE-0D73F99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406-FDD8-460B-B793-C18BE6699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3080" y="863640"/>
            <a:ext cx="93726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Cumulative percentage barplot indicating the cumulative percentage of DALYs accounted for by each clu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