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92E-69F2-4ABE-B639-BA2791B2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640-7951-42F3-A4CF-74898D3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073-3C20-44E7-9687-EE0BA25D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069-7359-4470-A0B1-F927B304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CD5-ACFB-4389-8334-C4FA0CFC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D6A-83C9-4248-B63C-EB8391F5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E7A-EBEF-402D-9EED-9B86158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D0D-58DA-43AE-939B-8C2BD3C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8CC-E715-491D-9CDE-9D1E008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8E1-EF2A-464F-9D58-194012C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12F-8789-4B95-AA8C-E7E6869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E79-FA6A-4AE4-A827-015500CF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17C1-315E-42A6-AE20-2B67C7D58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863640"/>
            <a:ext cx="93726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4. Cumulative percentage barplot indicating the cumulative percentage of DALYs accounted for by each clu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