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E6E2-25F9-4971-898A-B57562D19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CC30-447F-413A-B521-89D22EDD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1CA7-FE15-4521-A05A-2938679B1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EA9E-7C69-4557-8D7C-A388A9474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942F-D5AD-4EE6-97D7-F0C39882C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5C38-BDC3-409C-8094-CC4687F5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D744-8EB0-435C-9011-77B3C550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FDE9-3DB0-4B6A-81D9-CF0693717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93F4-B505-4C14-B81C-DAA288E8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CAF7-27AA-4FA8-89A7-B647295F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E064-2FFF-4DD0-B994-6CDCE674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CE38-4C0B-461A-ACAE-E4E82431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62EA-6D17-4E78-853A-2D30F37C2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ntds/article?id=10.1371/journal.pntd.0003756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863640"/>
            <a:ext cx="775980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 3. A “species accumulation” curve showing the cumulative number of diseases of interest sampled by increasing numbers of public health stakeholders examin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gott DM, Howes RE, Wiebe A, Battle KE, Golding N, et al. (2015) Prioritising Infectious Disease Mapping. PLOS Neglected Tropical Diseases 9(6): e0003756. https://doi.org/10.1371/journal.pntd.00037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ntds/article?id=10.1371/journal.pntd.00037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756480" y="6972480"/>
            <a:ext cx="323856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