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275-303C-46BB-B787-3BBD3E27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5FFA-011E-4FF5-8790-733B126A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7CA8-FC5B-4A57-AE87-2CBFEE5C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246-C7E9-4B5C-9EAB-540993E7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045-BBA1-43A9-9CC1-97627318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759-680B-45EF-AF38-684E0815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CF5-8978-4A78-B4D0-2CD9A7A1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360-C4E2-4CF5-8EE9-E2509124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09EC-8FB6-4E57-9E18-FEC335BF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EDD-AEF7-4180-A807-234474C4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5A38-771E-43A1-B457-AFF8CE4B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918F-1784-4BF5-852F-4A218E9E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66B0-4FF8-47EE-B98F-28834C1C9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ntds/article?id=10.1371/journal.pntd.000375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863640"/>
            <a:ext cx="77598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3. A “species accumulation” curve showing the cumulative number of diseases of interest sampled by increasing numbers of public health stakeholders examin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ott DM, Howes RE, Wiebe A, Battle KE, Golding N, et al. (2015) Prioritising Infectious Disease Mapping. PLOS Neglected Tropical Diseases 9(6): e0003756. https://doi.org/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ntds/article?id=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756480" y="6972480"/>
            <a:ext cx="3238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