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0363-FA28-4DB4-AD4C-7020B3CD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935-C585-45FC-BBF3-FFE55057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C6AB-679A-47FB-9242-73668FD5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D5C0-EA4D-459B-8999-A04094F7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58AE-E7FB-423B-99DB-C2C89997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349B-3437-4984-A625-E46A219D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A80A-2719-476B-B791-049DBC97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9198-781E-45C1-8CE3-0F54A528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4DC9-7F7A-415D-B9D9-0335E8D5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6718-ACB0-4826-87DD-48B0F6DC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5BBE-2368-4C63-A6E2-DC016094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4B42-B72A-4EDF-A97E-DB1C9774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CC49-A5B3-4535-95A9-44C161F58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ntds/article?id=10.1371/journal.pntd.000375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55880" y="863640"/>
            <a:ext cx="614664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2. Disease prioritis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ott DM, Howes RE, Wiebe A, Battle KE, Golding N, et al. (2015) Prioritising Infectious Disease Mapping. PLOS Neglected Tropical Diseases 9(6): e0003756. https://doi.org/10.1371/journal.pntd.00037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ntds/article?id=10.1371/journal.pntd.00037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756480" y="6972480"/>
            <a:ext cx="32385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