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5B5F6-1A59-4A96-9F57-32F19F492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E6198-4E77-46B3-BC1F-CC00F191E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B8D67-708A-4BFD-974C-B44F59C42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BF213-390F-4D0C-AF20-B23574036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C7818-542A-4808-B409-0A2A7540D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90E77-4067-4303-B466-CD6EAF048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F083B-966B-486B-A8BD-9FF3AA380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F5391-49D5-44BA-B09E-4740D6A21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3E7AD-2ACA-4D73-B7EF-5ACE23A7B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FB43E-FB57-4411-88CB-BF09B0B9F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B12F2-3CB6-49E5-AB3A-A8EF93F9A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01F84-73BC-4DCB-B9EB-20C031CDD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685C5-5EA5-4B19-A4D1-9EC5B24FF4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journals.plos.org/plosntds/article?id=10.1371/journal.pntd.0003756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806560" y="863640"/>
            <a:ext cx="4432320" cy="54864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55680" y="279360"/>
            <a:ext cx="9360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 1. Hierarchical organisation of the 33 cluste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44600" y="6515280"/>
            <a:ext cx="9182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gott DM, Howes RE, Wiebe A, Battle KE, Golding N, et al. (2015) Prioritising Infectious Disease Mapping. PLOS Neglected Tropical Diseases 9(6): e0003756. https://doi.org/10.1371/journal.pntd.00037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journals.plos.org/plosntds/article?id=10.1371/journal.pntd.00037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6756480" y="6972480"/>
            <a:ext cx="3238560" cy="73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