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B607A-DFDB-478F-B2FE-427902698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937E7-3082-4F97-A257-FEE2AC866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60674-053B-47EB-8B2C-EABAFA0F3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1920B-FD57-4831-AE45-9DC802931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62443-98F2-4C95-9DB4-060494588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D1BC0-AC4D-4C1D-B7C7-8523DE01A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23CB4-6D47-4C5D-B1FD-591DF4995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D8DDA-74FE-4BE8-A714-1C0183C53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50D74-EA32-4042-8AE1-1926B9D6F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73A64-0346-4028-927C-1F7F26C73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10C26-489F-4143-902B-85726CC62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5273B-2FE4-4B28-B7CF-01B39CE2D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CFA81-EF5A-4419-9CC7-8FDF6E6EF5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435760" y="1778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788800" y="177840"/>
            <a:ext cx="9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m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885120" y="620640"/>
            <a:ext cx="126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61-198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3398760"/>
            <a:ext cx="126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83-19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062000" y="1015920"/>
            <a:ext cx="3290760" cy="24256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4572000" y="1015920"/>
            <a:ext cx="3290760" cy="24256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1062000" y="3822840"/>
            <a:ext cx="3290760" cy="24256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4572000" y="3822840"/>
            <a:ext cx="3290760" cy="242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2T00:35:20Z</dcterms:created>
  <dc:creator>afriedman</dc:creator>
  <dc:description/>
  <dc:language>en-US</dc:language>
  <cp:lastModifiedBy>ahyde</cp:lastModifiedBy>
  <dcterms:modified xsi:type="dcterms:W3CDTF">2008-02-06T13:14:42Z</dcterms:modified>
  <cp:revision>3</cp:revision>
  <dc:subject/>
  <dc:title>Slide 1</dc:title>
</cp:coreProperties>
</file>