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F43-62B2-4711-822D-FE2520AB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8D0-DFB8-4E9D-89F1-CEAD101C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50E-1334-424B-98DE-87A4C9E7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3BF-5B4E-49AF-89C4-68A496F4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E63-B346-4C4B-AF4E-B74BE18B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174-5082-4F08-8EC7-461A31FE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DF3-DEAA-448F-AE38-F4707DA3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AF9-13FE-44A1-B8C9-61CBEB5C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6CD-4BC2-4DC3-B1EF-2D4B4FD9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21F-EC1C-4394-ABD7-479EC7E2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50D-E87C-4D92-9C44-BAD71AA9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9BB-3F1A-4C23-8B19-C3D295D6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AA0F-337B-485F-AF5E-819268FAE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5760" y="1778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88800" y="1778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85120" y="620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1-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33987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3-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2000" y="1015920"/>
            <a:ext cx="3290760" cy="242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1015920"/>
            <a:ext cx="3290760" cy="242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62000" y="3822840"/>
            <a:ext cx="3290760" cy="242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572000" y="3822840"/>
            <a:ext cx="32907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0:35:20Z</dcterms:created>
  <dc:creator>afriedman</dc:creator>
  <dc:description/>
  <dc:language>en-US</dc:language>
  <cp:lastModifiedBy>ahyde</cp:lastModifiedBy>
  <dcterms:modified xsi:type="dcterms:W3CDTF">2008-02-06T13:14:42Z</dcterms:modified>
  <cp:revision>3</cp:revision>
  <dc:subject/>
  <dc:title>Slide 1</dc:title>
</cp:coreProperties>
</file>