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582-A883-4D13-8746-EA5C8866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1472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977-0523-4841-A39F-14ECED0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032-C953-46F0-89CD-32063B83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4756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14720"/>
            <a:ext cx="1987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604-1C14-4481-B285-84776A3D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C9F-1728-4E37-9F0B-1357A3BD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679-F0BF-481D-91F9-F2085E9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F48-7B29-49B8-A74A-58FFD7F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8D2-30FF-494C-A616-FAA093E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2840"/>
            <a:ext cx="61722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72C-4B87-4FA6-BD65-74BA33F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D8E-A98B-4154-954A-4472968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1472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813-0DF1-438F-B28F-C52926A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47560"/>
            <a:ext cx="301176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14720"/>
            <a:ext cx="6172200" cy="31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40B-0A28-460C-A260-3443233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28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47560"/>
            <a:ext cx="6172200" cy="66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59840"/>
            <a:ext cx="1600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59840"/>
            <a:ext cx="21715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59840"/>
            <a:ext cx="1600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A05-2A9E-4DDE-812A-33F29BBA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760" y="152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6800" y="152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4360" y="59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14360" y="3376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46040" y="6311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58680"/>
            <a:ext cx="3290760" cy="242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0000" y="9777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8019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510000" y="3801960"/>
            <a:ext cx="3290760" cy="242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6735600"/>
            <a:ext cx="3290760" cy="242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510000" y="6827760"/>
            <a:ext cx="3290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36:19Z</dcterms:created>
  <dc:creator>afriedman</dc:creator>
  <dc:description/>
  <dc:language>en-US</dc:language>
  <cp:lastModifiedBy>ahyde</cp:lastModifiedBy>
  <dcterms:modified xsi:type="dcterms:W3CDTF">2008-02-06T12:51:21Z</dcterms:modified>
  <cp:revision>5</cp:revision>
  <dc:subject/>
  <dc:title>Slide 1</dc:title>
</cp:coreProperties>
</file>