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19D-6965-4186-A5F6-71FC63D6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1472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FD1-4408-4A21-9008-D6CFC266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E9C-F0CE-468F-9F4A-02991EF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F84-DBE5-432F-A455-C5F82935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823-3864-4201-AFD2-18CF1E3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D36-46BF-4A14-8290-42800C80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3BE-2D84-47D0-B6C4-0223B0BB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418-A978-4055-8C1E-EBED031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2840"/>
            <a:ext cx="61722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941-7F16-4B62-A58C-149B7F3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50A-0744-43E3-98F7-99634D0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12D-802F-466D-A09A-6CDBB1A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EE5-BA6E-428B-B920-BB01A2B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59840"/>
            <a:ext cx="1600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59840"/>
            <a:ext cx="217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59840"/>
            <a:ext cx="1600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54A-AF90-4E0F-AC6E-937B2480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760" y="152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6800" y="152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4360" y="59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14360" y="3376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46040" y="6311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58680"/>
            <a:ext cx="3290760" cy="242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0000" y="9777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19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510000" y="38019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6735600"/>
            <a:ext cx="3290760" cy="242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510000" y="6827760"/>
            <a:ext cx="3290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36:19Z</dcterms:created>
  <dc:creator>afriedman</dc:creator>
  <dc:description/>
  <dc:language>en-US</dc:language>
  <cp:lastModifiedBy>ahyde</cp:lastModifiedBy>
  <dcterms:modified xsi:type="dcterms:W3CDTF">2008-02-06T12:51:21Z</dcterms:modified>
  <cp:revision>5</cp:revision>
  <dc:subject/>
  <dc:title>Slide 1</dc:title>
</cp:coreProperties>
</file>