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8348D-39BF-4949-994A-4DA22EEBC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4E148-9849-4750-97D9-A02ED8E6A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63D70-303D-4A50-A05E-EA4228FAB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3A434-6F40-4BA7-B174-DC881F8C4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D81B0-96FD-4863-9921-D8DD16F24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6CB2D-3664-4F10-83EC-A9DBA2EC4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1E1C0-75F4-44E4-9503-1FDE4C1CC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F6C88-E467-4345-B179-B833960CE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08EE4-0296-4DA9-B89C-175DDAC6E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C047-220F-43C8-86A2-A9821C6B3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B2E4-17B8-4BC4-8E02-761BD41A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4C781-416E-4254-8EAD-670EC678A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1F68-0A23-499D-BEC1-5EFDE5FC11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journals.plos.org/plosmedicine/article?id=10.1371/journal.pmed.1001396"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760" y="2502000"/>
            <a:ext cx="9524880" cy="2197080"/>
          </a:xfrm>
          <a:prstGeom prst="rect">
            <a:avLst/>
          </a:prstGeom>
          <a:ln w="0">
            <a:noFill/>
          </a:ln>
        </p:spPr>
      </p:pic>
      <p:sp>
        <p:nvSpPr>
          <p:cNvPr id="42" name="PlaceHolder 1"/>
          <p:cNvSpPr>
            <a:spLocks noGrp="1"/>
          </p:cNvSpPr>
          <p:nvPr>
            <p:ph type="title"/>
          </p:nvPr>
        </p:nvSpPr>
        <p:spPr>
          <a:xfrm>
            <a:off x="355680" y="279360"/>
            <a:ext cx="9360000" cy="824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 2. Estimated number of adverse outcomes associated with syphilis in pregnancy averted in the middle scenario in 2008, and if Initiative for the Global Elimination of Congenital Syphilis targets for 2015 for testing and treatment had been met in 2008.</a:t>
            </a:r>
            <a:endParaRPr b="0" lang="en-US" sz="1600" spc="-1" strike="noStrike">
              <a:solidFill>
                <a:srgbClr val="000000"/>
              </a:solidFill>
              <a:latin typeface="Arial"/>
            </a:endParaRPr>
          </a:p>
        </p:txBody>
      </p:sp>
      <p:sp>
        <p:nvSpPr>
          <p:cNvPr id="43" name=""/>
          <p:cNvSpPr/>
          <p:nvPr/>
        </p:nvSpPr>
        <p:spPr>
          <a:xfrm>
            <a:off x="444600" y="6515280"/>
            <a:ext cx="9182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man L, Kamb M, Hawkes S, Gomez G, Say L, et al. (2013) Global Estimates of Syphilis in Pregnancy and Associated Adverse Outcomes: Analysis of Multinational Antenatal Surveillance Data. PLOS Medicine 10(2): e1001396. https://doi.org/10.1371/journal.pmed.100139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journals.plos.org/plosmedicine/article?id=10.1371/journal.pmed.1001396</a:t>
            </a:r>
            <a:endParaRPr b="0" lang="en-US" sz="1200" spc="-1" strike="noStrike">
              <a:solidFill>
                <a:srgbClr val="000000"/>
              </a:solidFill>
              <a:latin typeface="Arial"/>
            </a:endParaRPr>
          </a:p>
        </p:txBody>
      </p:sp>
      <p:pic>
        <p:nvPicPr>
          <p:cNvPr id="44" name="" descr=""/>
          <p:cNvPicPr/>
          <p:nvPr/>
        </p:nvPicPr>
        <p:blipFill>
          <a:blip r:embed="rId3"/>
          <a:stretch/>
        </p:blipFill>
        <p:spPr>
          <a:xfrm>
            <a:off x="5880240" y="7188120"/>
            <a:ext cx="4114800" cy="5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3-04-07T20:47:14Z</dcterms:modified>
  <cp:revision>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