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4C47-A2A3-4DBC-B819-6B0E1F26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C1AE-02C2-4EF4-BB55-14A5C23D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093-AA2E-4BCD-AEE2-6C59B3FA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958-489E-4E68-A82D-8EB9905F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56A-CB64-4DD9-B86B-6D6C04EE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435-231D-476E-AB38-A0A8A08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630-FE7B-4CD0-8843-536D977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C23-A889-4645-9E07-1DBCE2C9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82F-295B-4238-A9D2-1B4F74A3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FD5D-E2B7-4269-9F53-68F96545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467-BBA4-4D0F-A4A5-243B14D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C9F-ADDC-4E2F-8C85-27B5BBE5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E866-BED2-4EC5-94EA-2919B65C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100139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031840"/>
            <a:ext cx="9524880" cy="313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Estimated proportion of antenatal care attendees tested and treated in different scenarios for 2008, and proposed Initiative for the Global Elimination of Congenital Syphilis target for 20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man L, Kamb M, Hawkes S, Gomez G, Say L, et al. (2013) Global Estimates of Syphilis in Pregnancy and Associated Adverse Outcomes: Analysis of Multinational Antenatal Surveillance Data. PLOS Medicine 10(2): e1001396. https://doi.org/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