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0EC-6196-4C7C-A132-64A41948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B48-D7EE-42C4-BC72-B18B749F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29C-25E9-4845-A1F6-FB149407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9B0-1654-49B2-A782-03796928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1FB-53BD-4A33-86A0-DDFE9FAD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882-A47E-4FF1-9381-8B03F6DE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B31-2753-40EC-9DBC-3C7C6133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9F5-C20F-4733-9C95-CC036E12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237-A646-4DBB-843E-0E6D11AC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CD7-296D-40AC-982C-0072BD4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487-A282-4078-AAAA-89A124C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F05-04E5-417E-852D-F810E8C2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85E-BCAD-4427-B031-73776A0EE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100139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31840"/>
            <a:ext cx="9524880" cy="313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Estimated proportion of antenatal care attendees tested and treated in different scenarios for 2008, and proposed Initiative for the Global Elimination of Congenital Syphilis target for 20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man L, Kamb M, Hawkes S, Gomez G, Say L, et al. (2013) Global Estimates of Syphilis in Pregnancy and Associated Adverse Outcomes: Analysis of Multinational Antenatal Surveillance Data. PLOS Medicine 10(2): e1001396. https://doi.org/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