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2DC-926E-428D-A77E-A9924F86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A38-B8D0-4D2E-9576-76887E6F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D75-B266-4127-9677-D7249A84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21EF-4BE0-4D73-8ACA-882B9E84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CA23-9365-488A-AA80-8310E7B7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5CB0-4C32-4709-AEE1-C7D0DD42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A317-F8DE-4977-8BAD-C4AFDE1E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2A6-C892-4042-92FE-A62F4C74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2FE0-B8E2-4CFF-BF52-25076682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3E53-00A0-4997-976E-56280B86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87FF-C417-4655-9F88-FD862ADC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5B41-7889-4FE3-9D0C-7CEC8D72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E741-3920-46AD-AF34-8A01326AA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medicine/article?id=10.1371/journal.pmed.100139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81160" y="863640"/>
            <a:ext cx="768348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3. Estimated number of adverse outcomes associated with syphilis in pregnancy in a worst, middle, and best case scenarios of testing and treatment in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man L, Kamb M, Hawkes S, Gomez G, Say L, et al. (2013) Global Estimates of Syphilis in Pregnancy and Associated Adverse Outcomes: Analysis of Multinational Antenatal Surveillance Data. PLOS Medicine 10(2): e1001396. https://doi.org/10.1371/journal.pmed.10013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medicine/article?id=10.1371/journal.pmed.10013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