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D3E-8252-4DF8-8A2F-4479EDF2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F51B-DB3C-4D0C-8105-40722E85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43C2-FC88-4FDF-AF92-9AA26BA1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F705-42B0-48B8-BFA4-AB5B9451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A38-F943-461F-A48E-DD3FA67F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31A-236E-41D4-9FA3-AE66170F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CCD-D851-464D-A15A-3E4AAAA9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738F-C990-4ADE-82BB-788BAB9B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AD3-DD00-4541-B6B9-B46A0C51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F5C-C87A-4169-BB6F-0341C45F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55B-306A-42B8-BD5B-A51A49CE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C328-2EB3-47D8-A515-9B9015F3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496A-91D8-4391-B10F-1A8044609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100139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81160" y="863640"/>
            <a:ext cx="768348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3. Estimated number of adverse outcomes associated with syphilis in pregnancy in a worst, middle, and best case scenarios of testing and treatment in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man L, Kamb M, Hawkes S, Gomez G, Say L, et al. (2013) Global Estimates of Syphilis in Pregnancy and Associated Adverse Outcomes: Analysis of Multinational Antenatal Surveillance Data. PLOS Medicine 10(2): e1001396. https://doi.org/10.1371/journal.pmed.10013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10013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